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628560" y="2819520"/>
            <a:ext cx="8667720" cy="15238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153753" dir="2700000" blurRad="0" rotWithShape="0">
              <a:srgbClr val="3366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1041480" y="1371600"/>
            <a:ext cx="800712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RE IN TEAM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FATTORI DI SUCCESS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6400800" y="1295280"/>
            <a:ext cx="1843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415800" y="6237360"/>
            <a:ext cx="561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A cura di: Franco Tartagl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58960" y="838080"/>
            <a:ext cx="668664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914560" y="762120"/>
            <a:ext cx="429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INTERPERSON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171880" y="3397320"/>
            <a:ext cx="577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  <a:ea typeface="Times New Roman"/>
              </a:rPr>
              <a:t>LE PRINCIPALI COMPONENT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63600" y="2406600"/>
            <a:ext cx="7605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E’ IL PROCESSO CHIAVE PER IL FUNZIONAMENTO DEL GRUPP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 flipH="1" flipV="1">
            <a:off x="3905280" y="1873080"/>
            <a:ext cx="2394000" cy="533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89080" y="3244680"/>
            <a:ext cx="5778720" cy="762120"/>
          </a:xfrm>
          <a:prstGeom prst="rect">
            <a:avLst/>
          </a:prstGeom>
          <a:noFill/>
          <a:ln w="28440">
            <a:solidFill>
              <a:srgbClr val="b2b2b2"/>
            </a:solidFill>
            <a:miter/>
          </a:ln>
          <a:effectLst>
            <a:outerShdw dist="63504" dir="18416092" blurRad="0" rotWithShape="0">
              <a:srgbClr val="3333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4800600"/>
            <a:ext cx="2476440" cy="825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5f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ONFRONTO E SCAMBI</a:t>
            </a:r>
            <a:r>
              <a:rPr b="1" lang="it-IT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308560" y="5591160"/>
            <a:ext cx="231156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5f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SCO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8080" y="4800600"/>
            <a:ext cx="255924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5f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 </a:t>
            </a: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ESPOSI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914560" y="5667480"/>
            <a:ext cx="2063880" cy="459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e5f5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6722400">
            <a:off x="2113920" y="4098600"/>
            <a:ext cx="609480" cy="577800"/>
          </a:xfrm>
          <a:custGeom>
            <a:avLst/>
            <a:gdLst>
              <a:gd name="textAreaLeft" fmla="*/ 95040 w 609480"/>
              <a:gd name="textAreaRight" fmla="*/ 533520 w 60948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6019800">
            <a:off x="3380760" y="4592520"/>
            <a:ext cx="1295280" cy="5778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4168800">
            <a:off x="5362560" y="4593960"/>
            <a:ext cx="1295280" cy="5778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44360 h 577800"/>
              <a:gd name="textAreaBottom" fmla="*/ 433440 h 577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rot="3279000">
            <a:off x="7273800" y="4098600"/>
            <a:ext cx="609480" cy="578160"/>
          </a:xfrm>
          <a:custGeom>
            <a:avLst/>
            <a:gdLst>
              <a:gd name="textAreaLeft" fmla="*/ 95040 w 609480"/>
              <a:gd name="textAreaRight" fmla="*/ 533520 w 609480"/>
              <a:gd name="textAreaTop" fmla="*/ 144360 h 578160"/>
              <a:gd name="textAreaBottom" fmla="*/ 433800 h 578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50960" y="858960"/>
            <a:ext cx="627372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905120" y="1055520"/>
            <a:ext cx="617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E C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 flipV="1">
            <a:off x="3625920" y="1817640"/>
            <a:ext cx="2394000" cy="533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25480" y="2427120"/>
            <a:ext cx="81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 CLIMA E’ IL VISSUTO “EMOTIVO” DEL GRUPPO, L’ATMOSFERA E SI PUÒ OSSERVARE ATTRAVERSO I SUOI PRINCIPALI INDICATOR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7680" y="4484520"/>
            <a:ext cx="214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OSTEG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68520" y="5170320"/>
            <a:ext cx="255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CAL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360" y="6008760"/>
            <a:ext cx="561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RICONOSCIMENTO E ST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952880" y="5322960"/>
            <a:ext cx="495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APERTURA E FEEDB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608880" y="4408560"/>
            <a:ext cx="288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cc"/>
                </a:solidFill>
                <a:latin typeface="Arial"/>
                <a:ea typeface="Times New Roman"/>
              </a:rPr>
              <a:t>SODDISF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 rot="17013600">
            <a:off x="3039840" y="4882320"/>
            <a:ext cx="2133720" cy="123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 rot="17013600">
            <a:off x="2362320" y="4356000"/>
            <a:ext cx="1371600" cy="123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 rot="17013600">
            <a:off x="1067760" y="4058640"/>
            <a:ext cx="685800" cy="165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 rot="14976600">
            <a:off x="5413320" y="4479120"/>
            <a:ext cx="1523880" cy="1648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 rot="15059400">
            <a:off x="7635600" y="4041000"/>
            <a:ext cx="685800" cy="1238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47680" y="4408560"/>
            <a:ext cx="222876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5480" y="5856120"/>
            <a:ext cx="4870440" cy="152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283360" y="5170320"/>
            <a:ext cx="4292280" cy="1526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16200" y="5018040"/>
            <a:ext cx="214632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099200" y="4332240"/>
            <a:ext cx="255924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155600" y="3722760"/>
            <a:ext cx="7594560" cy="152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dddddd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45960" y="2514600"/>
            <a:ext cx="8585280" cy="3581280"/>
          </a:xfrm>
          <a:prstGeom prst="cloudCallout">
            <a:avLst>
              <a:gd name="adj1" fmla="val 28407"/>
              <a:gd name="adj2" fmla="val -14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666800" y="870120"/>
            <a:ext cx="656280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371600" y="457200"/>
            <a:ext cx="71629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ZIONE E CLI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85800" y="1905120"/>
            <a:ext cx="883908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 CLIMA DEL GRUPPO DI LAVORO DIPENDE IN BUONA MISURA DALLE MODALITÀ DI COMUNIC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E COMUNICHIAMO IN TEAM DETERMINA UN CLIMA PIÙ COLLABORATIVO O PIÙ CONFLITT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886200" y="1143000"/>
            <a:ext cx="2394000" cy="533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467000" y="822240"/>
            <a:ext cx="668628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09680" y="380880"/>
            <a:ext cx="52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O SCAMBIO DELLE INFORM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3657600" y="1295280"/>
            <a:ext cx="2394000" cy="533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1981080"/>
            <a:ext cx="8991720" cy="438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UN GRUPPO DI LAVORO LE INFORMAZIONI SONO UNA DELLE PRINCIPALI “RISORSE” PER POTER LAVORARE BENE INSIE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E INFORMAZIONI DEVONO CIRCOLARE IN MODO CHIARO E TEMPESTIVO PER EVITARE TRE CRITICITÀ CHE SONO FONTE DI INEFFICIENZA E DI POTENZIALE CONFLITTUALIT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STORSIONE DELLE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’ASSENZA DI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L RITARDO, LA MANCANZA DI TEMPESTIVITA’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19320" y="2619360"/>
            <a:ext cx="7264440" cy="3629160"/>
          </a:xfrm>
          <a:prstGeom prst="rect">
            <a:avLst/>
          </a:prstGeom>
          <a:noFill/>
          <a:ln w="0">
            <a:noFill/>
          </a:ln>
          <a:effectLst>
            <a:outerShdw dist="91658" dir="19582341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467000" y="822240"/>
            <a:ext cx="668628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8088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’ASCOL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657600" y="1295280"/>
            <a:ext cx="2394000" cy="533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1981080"/>
            <a:ext cx="8991720" cy="53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UN GRUPPO DI LAVORO EFFICACE LA RELAZIONE COMUNICATIVA E’ CARATTERIZZATA DA UN ALTO LIVELLO DI ASCOL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’ASCOLTO PERMETTE DI RAGGIUNGERE DUE OBIETTIV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UMENTA LA COMPRENSIONE RECIPROCA, FACILITA LA NEGOZIAZIONE E L’INTEGRAZIONE DEI PUNTI DI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 UN CLIMA DI MAGGIORE DISPONIBILITA E STIMA RECIPROCA, POICHE’ ATTRAVERSO L’ASCOLTO I COMPONENTI DEL GRUPPO DIMOSTRANO L’INTERESSE E L’ATTENZIONE RECIPROCA PER I DIVERSI PUNTI DI VISTA/BISOGNI/ASPETT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19320" y="2619360"/>
            <a:ext cx="7264440" cy="3629160"/>
          </a:xfrm>
          <a:prstGeom prst="rect">
            <a:avLst/>
          </a:prstGeom>
          <a:noFill/>
          <a:ln w="0">
            <a:noFill/>
          </a:ln>
          <a:effectLst>
            <a:outerShdw dist="91658" dir="19582341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SCOLTARE IN MODO ATTIVO: CARATTERISTICHE DEI GRUPPI DI SUCC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LASCIARE SPAZIO, ASPETTARE, RISPETTARE I TE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MESSAGGI VERBALI E NON VERBALI DI ACCOGLIMENTO E DI INCORAGGI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OSSERVARE PER COGLIERE LE COMUNICAZIONI NON VERBALI/COMPORTAME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EVITARE ESPRESSIONI POLEMICHE, SARCASTICHE, SQUALIFICANTI RISPETTO AGLI ALTRI PUNTI DI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RE DOMANDE APERTE, SEMPLICI, FINALIZZATE AD APPROFONDIRE E CAPIRE MEG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FORMULARE, RIPRENDERE CIO’ CHE L’ALTRO HA DETTO E RIPROPORGLIELO FACENDO COLLEGAMENTI O AGGIUNGENDO VALORE ALLA SUA COMUNIC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RICAPITOLARE PERIOD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1467000" y="822240"/>
            <a:ext cx="668628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09680" y="38088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GESTIONE  DELLA RE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 flipV="1">
            <a:off x="3657600" y="1295280"/>
            <a:ext cx="2394000" cy="533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880" y="1981080"/>
            <a:ext cx="8991720" cy="422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UN GRUPPO DI LAVORO NON CI SI LIMITA A SCAMBIARSI INFORMAZIONI E A TRASMETTERE CONTENUTI “TECNICI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L MODO DI COMUNICARE STABILISCE RELAZIONI E DETERMINA IL CLIMA DEI RAPPORTI INTERPERSON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 GRUPPI DI LAVORO EFFICACI SONO CAPACI DI “GOVERNARE” ANCHE IL LIVELLO RELAZIONALE DELLA COMUNICAZIONE, CHE E’ MOLTO LEGATO AL “MODO” IN CUI COMUNICHIA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2619360"/>
            <a:ext cx="7264440" cy="3629160"/>
          </a:xfrm>
          <a:prstGeom prst="rect">
            <a:avLst/>
          </a:prstGeom>
          <a:noFill/>
          <a:ln w="0">
            <a:noFill/>
          </a:ln>
          <a:effectLst>
            <a:outerShdw dist="91658" dir="19582341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467000" y="822240"/>
            <a:ext cx="668628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09680" y="380880"/>
            <a:ext cx="528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EGOZIARE E INTEGRARE LE DIFFEREN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H="1" flipV="1">
            <a:off x="3657600" y="1218600"/>
            <a:ext cx="2394000" cy="53316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33520" y="1752480"/>
            <a:ext cx="8991360" cy="498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 UN GRUPPO DI LAVORO LE DIFFERENZE SONO INEVITABILI, POICHÉ DIVERSE SONO LE APPARTENENZE, LE COMPETENZE, I PUNTI DI VISTA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DIFFERENZA E’ UNA RISORSA, NON UN VINCOLO, PER IL GRUPPO, MA VA GESTITA METTENDO IN ATTO UN PROCESSO DI COMUNICAZIONE CHE RISPETTI I PRINCIPI DELLA CORRETTA TRASMISSIONE DEL PROPRIO PENSIERO, DELL’ASCOLTO, DELL’ATTENZIONE AGLI ASPETTI RELAZIONAL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A SINERGIA, L’INNOVAZIONE, SI POSSONO OTTENERE SE IL GRUPPO RIESCE A NEGOZIARE E INTEGRARE LE DIFFERENZ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19320" y="2619360"/>
            <a:ext cx="7264440" cy="3629160"/>
          </a:xfrm>
          <a:prstGeom prst="rect">
            <a:avLst/>
          </a:prstGeom>
          <a:noFill/>
          <a:ln w="0">
            <a:noFill/>
          </a:ln>
          <a:effectLst>
            <a:outerShdw dist="91658" dir="19582341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1760" y="228564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0000"/>
                </a:solidFill>
                <a:latin typeface="Times New Roman"/>
              </a:rPr>
              <a:t>COMUNICARE NELLE RIUN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MUNICARE NELLE RIUNIONI: LE DIVERSE FA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PREPARAZ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PRI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APERTURA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INIZI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SVOLGIMENTO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CENTR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CLUSION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NELLA PARTE FINALE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523880" y="620640"/>
            <a:ext cx="6686640" cy="1023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39800" y="765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NAMICA DI UN GRUPP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81240" y="3213000"/>
            <a:ext cx="3467160" cy="25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RE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SOCI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RAPPRESENTA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INTE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 flipV="1">
            <a:off x="3673440" y="1751760"/>
            <a:ext cx="2394000" cy="3812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39800" y="2421000"/>
            <a:ext cx="705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DINAMICA DI UN GRUPPO DI LAVORO E’ DATA DALL’INTERAZIONE TRA QUATTRO LIVELL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PREPARAZIONE DELLA RIUN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320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L’OBIETTIVO DELLA RIUNIONE. QUAL E’ IL RISULTATO ATTESO ATTESO, COSA SI VUOLE CONSEGUIRE CON 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DISPORRE UN 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LA DURAT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ORNIRE INFORMAZIONI SUI CONTENUTI DELLA RIUNIONE: OBIETTIVO (COSA SI VUOLE OTTENERE), ORDINE DEL GIORNO (TEMI TRATTATI E TEMPI PREVISTI), TIPO DI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PARARE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INVIARE TUTTA LA DOCUMENTAZIONE NECESS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APERTURA DELLA RIUNIONE</a:t>
            </a:r>
            <a:br>
              <a:rPr sz="2800"/>
            </a:b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SENTAZIONE EVENTUALE DE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SPLICITARE IL RISULTATO ATTESO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PECIFICARE 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EFINIRE I TEM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ABILIRE IL METODO/PROCESSO DI LAVO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ASSEGNARE EVENTUALI INCARICH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SIDIO DELLA METODOLOGIA/PROCESSO DI LAVORO STABILI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GOLARE LA COMUNICAZIONE: FAR INTERVENIRE, GARANTIRE L’ASCOLTO, INTEGRARE, LIMITARE, ALLARGARE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ITARE DISPERSIONI, NON SOFFERMARSI SU ARGOMENTI SECONDARI O AL DI FUORI DELL’ORDINE DEL GIOR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RE RAPPORTI-COMPORTAMENTI PROBLEMATICI O CONFLITTUA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TILIZZARE SUPPORTI: LAVAGN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SVOLGIMENTO DELLA RIUNION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RE SINTESI PARZIALI AL TERMINE DI OGNI FASE E SU COSE “ACQUISITE”, RICAPITOLARE PERIODICAM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DISCUTERE ALL’INIZIO I PUNTI CHE RICHIEDONO MAGGIORE IMPEGNO, INIZIARE DAI PUNTI CHE UNISCONO I PARTECIPAN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IUDERE ALL’ORA STABILITA ( LA DURATA IDEALE DI RIUNIONE NON DOVREBBE SUPERARE LE DUE O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CONCLUSIONE DELLA RIUNION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77800" y="2057040"/>
            <a:ext cx="858528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/RICAPITOLAZIONE  DI CIO’ CHE E’ STATO DEFINITO E MESSO IN COMU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ILEVAZIONE DI EVENTUALI PUNTI ANCORA APE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IANIFICAZIONE DEL “DOPO” RIUNIONE: AZIONI, COMPITI E RESPONSABILITÀ, TEMPI, MODALITÀ DI VERIF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IL VERBALE DELLA RIUNIONE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TEMA DELLA RIUN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UNTI TRATTA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EVENTUALE SINTESI INTERVENTI DEI SINGOLI, PROPOSTE FATTE, POSIZIONI ASSU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INTESI DELLE CONCLUSIONI E DELLE DECISIONI PRE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RESPONSABILITÀ ASSEGN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IPOLOGIE DI RIUN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UNIONI INFORMATIV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MESSA IN COMUNE DI DIVERSE INFORMAZIONI (DATI, NOTIZIE, FATTI, CAMBIAMENTI ORGANIZZATIVI…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UNIONI CONSULTIV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MESSA IN COMUNE - PRODUZIONE DI IDEE, OPINIONI, ALTERNATIVE DI SOLUZIONE, KNOW-H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UNIONI DECISIONAL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MESSA IN COMUNE, CONDIVISIONE, NEGOZIAZIONE DI DECISIONI E E SCELTE OPER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IPOLOGIE :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UNIONE INFORMA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UNIONI INFORMATIV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I PARTECIPANTI DEVONO USCIRE DALLA RIUNIONE CON INFORMAZIONI PIÙ AGGIORNATE, ESAURIENTI E PREC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ALITÀ DI COMUNICAZIONE EFFICAC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SENTARE LE INFORM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VERIFICARE LA COMPRENS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IMOLARE IL FEED BACK, ASCOLTARE IN MODO AT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RE L’EVENTUALE DIBATTI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IPOLOGIE :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UNIONE CONSUL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UNIONI CONSULTIV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LA RIUNIONE DEVE FAVORIRE L’ELABORAZIONE IDEE, OPPORTUNITÀ, ALTERNATIVE DI SOLUZIONE, PROPOSTE…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ALITÀ DI COMUNICAZIONE EFFICAC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PRESENTARE IL TEMA, FACILITARE LA DISPONIBILITÀ DI INFORMAZIONI E L’ANALISI DELLA SITUAZI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HIEDERE OPINIONI, ASCOLTARE, STIMOL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R APPROFONDIRE, CONFRONTARE, INTEGR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VORIRE LA CREATIVITÀ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1760" y="609120"/>
            <a:ext cx="83818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TIPOLOGIE: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Times New Roman"/>
              </a:rPr>
              <a:t>RIUNIONE DECISION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42680" y="1600200"/>
            <a:ext cx="842004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RIUNIONI DECISIONALI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LA RIUNIONE DEVE FAVORIRE IL CONSENSO, OVVERO LA NEGOZIAZIONE, SU UNA DECISIONE. DEVONO USCIRE PIANI D’AZIONE, INCARICHI, TEMPISTICHE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MODALITÀ DI COMUNICAZIONE EFFICACE</a:t>
            </a: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: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R COMPRENDERE LA DECISIONE E LE MOTIV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STIMOLARE IL CONFRO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FACILITARE L’INTEGRAZIONE DI PUNTI DI VI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NEGOZIARE: INDIVIDUARE SOLUZIONI VANTAGGIOSE PER LE DIVERSE PAR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GESTIRE LE DIFFERENZE E I CONFLITTI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620640"/>
            <a:ext cx="6686640" cy="1023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39800" y="765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NAMICA DI UN GRUPP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92160" y="2492280"/>
            <a:ext cx="7921800" cy="32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REALE: E’ L’INSIEME CONCRETO MANIFESTO DI SPAZIO/TEMPO/PERSONE. SI TRATTA DI DATI FREDDI, OSSERVABILI E DESCRIVIBI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SOCIALE: E’ L’INSIEME DI APPARTENENZE INDIVIDUALI DI CIASCUN COMPONENTE AD ALTRI GRUPPI SOCIALI (FAMIGLIA, PROFESSIONE, RELIGIONE, PARTITO, SPORT…) CHE FUNGONO DA PUNTO DI RIFERI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 flipV="1">
            <a:off x="3673440" y="1751760"/>
            <a:ext cx="2394000" cy="3812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523880" y="620640"/>
            <a:ext cx="6686640" cy="102384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39800" y="765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DINAMICA DI UN GRUPP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992160" y="2492280"/>
            <a:ext cx="7921800" cy="35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4120" indent="-384120">
              <a:lnSpc>
                <a:spcPct val="100000"/>
              </a:lnSpc>
              <a:spcBef>
                <a:spcPts val="1125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RAPPRESENTATO: E’ LA PERCEZIONE CHE CIASCUN COMPONENTE HA DEGLI ALTRI, DEL GRUPPO, DEL COMPITO E DELLE DIVERSE ATTIVITÀ CHE SI SVOLGONO. IN BASE A QUESTE PERCEZIONI CIASCUNO SI COMPORTA, SI RELAZIONA, SI MOTIV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lnSpc>
                <a:spcPct val="100000"/>
              </a:lnSpc>
              <a:spcBef>
                <a:spcPts val="1250"/>
              </a:spcBef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IVELLO INTERNO: E’ IL LIVELLO PROFONDO E LATENTE CHE CARATTERIZZA IL MONDO INTERNO E LA VITA MENTALE DI CIASCUN INDIVIDU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H="1" flipV="1">
            <a:off x="3673440" y="1751760"/>
            <a:ext cx="2394000" cy="3812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952880" y="2590920"/>
            <a:ext cx="3632400" cy="8380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03280" y="2743200"/>
            <a:ext cx="2641680" cy="533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50000">
                <a:srgbClr val="ffffcc"/>
              </a:gs>
              <a:gs pos="100000">
                <a:srgbClr val="fefe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320840" y="1600200"/>
            <a:ext cx="751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UN TEAM, PER RAGGIUNGERE CONDIZIONI DI EFFICACIA, DEVE AVERE COMPETENZE NELLE DUE ARE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95280" y="2743200"/>
            <a:ext cx="2889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 COMPI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es-ES" sz="900" spc="-1" strike="noStrike">
                <a:solidFill>
                  <a:srgbClr val="cc3300"/>
                </a:solidFill>
                <a:latin typeface="Arial"/>
                <a:ea typeface="Times New Roman"/>
              </a:rPr>
              <a:t> 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APER F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ORGANIZZ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IANIFICA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952880" y="2895480"/>
            <a:ext cx="388008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LE REL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STIRE LE RELAZIONI INTERPERSONAL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STIRE IL CL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ESTIRE I CONFLITT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30120" y="1905120"/>
            <a:ext cx="1073160" cy="2057400"/>
          </a:xfrm>
          <a:custGeom>
            <a:avLst/>
            <a:gdLst>
              <a:gd name="textAreaLeft" fmla="*/ 143640 w 1073160"/>
              <a:gd name="textAreaRight" fmla="*/ 929520 w 107316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8669160" y="1903320"/>
            <a:ext cx="1071720" cy="2059200"/>
          </a:xfrm>
          <a:custGeom>
            <a:avLst/>
            <a:gdLst>
              <a:gd name="textAreaLeft" fmla="*/ 143280 w 1071720"/>
              <a:gd name="textAreaRight" fmla="*/ 928440 w 1071720"/>
              <a:gd name="textAreaTop" fmla="*/ 360360 h 2059200"/>
              <a:gd name="textAreaBottom" fmla="*/ 1492920 h 2059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6172200" y="4784760"/>
            <a:ext cx="1981080" cy="14637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295280" y="4657680"/>
            <a:ext cx="2521080" cy="1542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114800" y="5638680"/>
            <a:ext cx="1828800" cy="30492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40680 h 304920"/>
              <a:gd name="textAreaBottom" fmla="*/ 26424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 flipV="1">
            <a:off x="3885480" y="4876920"/>
            <a:ext cx="2057400" cy="304560"/>
          </a:xfrm>
          <a:custGeom>
            <a:avLst/>
            <a:gdLst>
              <a:gd name="textAreaLeft" fmla="*/ 359640 w 2057400"/>
              <a:gd name="textAreaRight" fmla="*/ 1491480 w 2057400"/>
              <a:gd name="textAreaTop" fmla="*/ 40680 h 304560"/>
              <a:gd name="textAreaBottom" fmla="*/ 26388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745240" y="838080"/>
            <a:ext cx="3779640" cy="4572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816520" y="907920"/>
            <a:ext cx="36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COMPITO E RELAZIO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743040" y="3048120"/>
            <a:ext cx="817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50960" y="838080"/>
            <a:ext cx="668664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3000" y="6858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RE IN TEAM: CHIARIRE L’OBIET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90720" y="1905120"/>
            <a:ext cx="80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3366"/>
                </a:solidFill>
                <a:uFillTx/>
                <a:latin typeface="Arial"/>
                <a:ea typeface="Times New Roman"/>
              </a:rPr>
              <a:t>L’ OBIETTIVO DEVE ESS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 flipV="1">
            <a:off x="3733920" y="1371600"/>
            <a:ext cx="2394000" cy="38088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838080" y="2438280"/>
            <a:ext cx="8420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municato a tutti i componenti del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arito e condiviso, senza dare nulla per scontat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3040" y="3657600"/>
            <a:ext cx="817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3657600"/>
            <a:ext cx="8420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spresso concretamente come risultato, non vago e gene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43040" y="4343400"/>
            <a:ext cx="817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25480" y="4952880"/>
            <a:ext cx="8172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5480" y="5562720"/>
            <a:ext cx="8172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724280"/>
            <a:ext cx="81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deguato alle risorse e potenzialità del grup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2120" y="5410080"/>
            <a:ext cx="84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Monitorato e verific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23880" y="838080"/>
            <a:ext cx="668664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19320" y="103500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RE IN TEAM: DARSI UN ME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73000" y="2362320"/>
            <a:ext cx="8159760" cy="1334160"/>
          </a:xfrm>
          <a:prstGeom prst="rect">
            <a:avLst/>
          </a:prstGeom>
          <a:noFill/>
          <a:ln w="93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IL METODO E’ LA STRATEGI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N CUI SI AFFRONTE UN PERCORSO, UN COMPITO, UN OBIETTIVO, CON CUI SI AFFRONTA UN PROGETTO, SI RISOLVE UN PROBLEMA, SI PRENDE UNA DECIS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673440" y="1751760"/>
            <a:ext cx="2394000" cy="38124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773520"/>
            <a:ext cx="9144000" cy="34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ER LAVORARE EFFICACEMENTE IN GRUPPO E’ NECESS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IARIRE, CONDIVIDERE E RISPETT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 PERCORSO DI LAVOR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 LE MODALITA’ PER AFFRONTARLO E CONCLUDER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45960" y="2514600"/>
            <a:ext cx="8585280" cy="3581280"/>
          </a:xfrm>
          <a:prstGeom prst="cloudCallout">
            <a:avLst>
              <a:gd name="adj1" fmla="val 28407"/>
              <a:gd name="adj2" fmla="val -14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66800" y="870120"/>
            <a:ext cx="656280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219320" y="8380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RE IN TEAM: CHIARIRE I RU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048120"/>
            <a:ext cx="72644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L RUOLO È L’INSIEME DEI COMPORTAMEN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HE CI SI ASPETTA DA CHI RICOP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NA CERTA POSIZIONE ALL’INTER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L GRUPPO DI LAVO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886200" y="1752480"/>
            <a:ext cx="2394000" cy="533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45960" y="2514600"/>
            <a:ext cx="8585280" cy="3581280"/>
          </a:xfrm>
          <a:prstGeom prst="cloudCallout">
            <a:avLst>
              <a:gd name="adj1" fmla="val 28407"/>
              <a:gd name="adj2" fmla="val -1489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66800" y="870120"/>
            <a:ext cx="6562800" cy="80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  <a:effectLst>
            <a:outerShdw dist="91658" dir="19582341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371600" y="457200"/>
            <a:ext cx="716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MUNICARE IN TEAM: CHIARIRE I  RU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85800" y="1905120"/>
            <a:ext cx="883908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E’ QUINDI MOLTO IMPORTANTE IN UN GRUPPO CHE SIANO ESPLICITATE LE RECIPROCHE ASPETTATIVE IN MODO CHE CIASCUNO ABBIA CHIARO CHE COSA GLI ALTRI SI ASPETTANO DA LUI, A PARTIRE DA QUESTA CONSAPEVOLEZZA E’ POSSIBILE NEGOZIARE E CHIARIRE E CONDIVIDERE I RISPETTIVI RUOL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QUESTO PERMETTE DI RIDURRE LA CONFLITTUALITÀ DERIVANTE DA ASPETTATIVE INADEGUATE, DIVERSE O INCOMPATIBI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H="1" flipV="1">
            <a:off x="3886200" y="1143000"/>
            <a:ext cx="2394000" cy="533520"/>
          </a:xfrm>
          <a:prstGeom prst="triangle">
            <a:avLst>
              <a:gd name="adj" fmla="val 50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4T10:52:13Z</dcterms:created>
  <dc:creator>Tartaglia</dc:creator>
  <dc:description/>
  <dc:language>en-US</dc:language>
  <cp:lastModifiedBy>Franco Tartaglia</cp:lastModifiedBy>
  <cp:lastPrinted>2002-04-02T05:27:27Z</cp:lastPrinted>
  <dcterms:modified xsi:type="dcterms:W3CDTF">2005-06-30T17:19:30Z</dcterms:modified>
  <cp:revision>158</cp:revision>
  <dc:subject/>
  <dc:title>Presentazione di PowerPoint</dc:title>
</cp:coreProperties>
</file>