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4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_rels/notesSlide42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4.xml.rels" ContentType="application/vnd.openxmlformats-package.relationships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1.wmf" ContentType="image/x-wmf"/>
  <Override PartName="/ppt/media/image3.png" ContentType="image/png"/>
  <Override PartName="/ppt/media/image7.png" ContentType="image/png"/>
  <Override PartName="/ppt/media/image15.wmf" ContentType="image/x-wmf"/>
  <Override PartName="/ppt/media/image6.wmf" ContentType="image/x-wmf"/>
  <Override PartName="/ppt/media/image22.wmf" ContentType="image/x-wmf"/>
  <Override PartName="/ppt/media/image5.wmf" ContentType="image/x-wmf"/>
  <Override PartName="/ppt/media/image10.wmf" ContentType="image/x-wmf"/>
  <Override PartName="/ppt/media/image21.wmf" ContentType="image/x-wmf"/>
  <Override PartName="/ppt/media/image4.wmf" ContentType="image/x-wmf"/>
  <Override PartName="/ppt/media/image19.png" ContentType="image/png"/>
  <Override PartName="/ppt/media/image1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86800" cy="9622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0" y="0"/>
            <a:ext cx="6886440" cy="9623520"/>
          </a:xfrm>
          <a:custGeom>
            <a:avLst/>
            <a:gdLst>
              <a:gd name="textAreaLeft" fmla="*/ 360 w 6886440"/>
              <a:gd name="textAreaRight" fmla="*/ 6886080 w 6886440"/>
              <a:gd name="textAreaTop" fmla="*/ 360 h 9623520"/>
              <a:gd name="textAreaBottom" fmla="*/ 9623160 h 9623520"/>
            </a:gdLst>
            <a:ahLst/>
            <a:rect l="textAreaLeft" t="textAreaTop" r="textAreaRight" b="textAreaBottom"/>
            <a:pathLst>
              <a:path w="21600" h="30185">
                <a:moveTo>
                  <a:pt x="4" y="0"/>
                </a:moveTo>
                <a:arcTo wR="4" hR="4" stAng="16200000" swAng="-5400000"/>
                <a:lnTo>
                  <a:pt x="0" y="30181"/>
                </a:lnTo>
                <a:arcTo wR="4" hR="4" stAng="10800000" swAng="-5400000"/>
                <a:lnTo>
                  <a:pt x="21596" y="30185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body"/>
          </p:nvPr>
        </p:nvSpPr>
        <p:spPr>
          <a:xfrm>
            <a:off x="918720" y="4586400"/>
            <a:ext cx="5048280" cy="434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201320" y="841320"/>
            <a:ext cx="4483080" cy="33624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Click to move the slide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9080" y="4586040"/>
            <a:ext cx="50500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9080" y="4586040"/>
            <a:ext cx="50500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9080" y="4586040"/>
            <a:ext cx="50500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9080" y="4586040"/>
            <a:ext cx="50500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9080" y="4586040"/>
            <a:ext cx="50500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9080" y="4586040"/>
            <a:ext cx="50500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90384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90384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914256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298440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047600" y="728640"/>
            <a:ext cx="4794480" cy="359568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9080" y="4586040"/>
            <a:ext cx="50500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201680" y="841320"/>
            <a:ext cx="4483080" cy="33624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9080" y="4586040"/>
            <a:ext cx="5050080" cy="4351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0320"/>
                <a:tab algn="l" pos="1522440"/>
                <a:tab algn="l" pos="2286000"/>
                <a:tab algn="l" pos="3046320"/>
                <a:tab algn="l" pos="3808440"/>
                <a:tab algn="l" pos="4572000"/>
                <a:tab algn="l" pos="5332320"/>
                <a:tab algn="l" pos="6094440"/>
                <a:tab algn="l" pos="6858000"/>
                <a:tab algn="l" pos="7618320"/>
                <a:tab algn="l" pos="8380440"/>
                <a:tab algn="l" pos="9144000"/>
                <a:tab algn="l" pos="9904320"/>
                <a:tab algn="l" pos="10666440"/>
                <a:tab algn="l" pos="1078236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  <a:ea typeface="SimSun"/>
              </a:rPr>
              <a:t>La metodologia didattica che verrà adottata nel seminario è altrettanto importante per realizzare gli obiettivi di apprendimento proposti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760320"/>
                <a:tab algn="l" pos="1522440"/>
                <a:tab algn="l" pos="2286000"/>
                <a:tab algn="l" pos="3046320"/>
                <a:tab algn="l" pos="3808440"/>
                <a:tab algn="l" pos="4572000"/>
                <a:tab algn="l" pos="5332320"/>
                <a:tab algn="l" pos="6094440"/>
                <a:tab algn="l" pos="6858000"/>
                <a:tab algn="l" pos="7618320"/>
                <a:tab algn="l" pos="8380440"/>
                <a:tab algn="l" pos="9144000"/>
                <a:tab algn="l" pos="9904320"/>
                <a:tab algn="l" pos="1066644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DF558-0E9D-4F0A-8253-46BA28E47B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D122B-51F8-42E6-B129-49BF3DF56B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B12839-71A0-42A8-8EAF-66874141B5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F44B4-4EA7-4115-854D-5AEAFEA0B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27AA20-2C2E-45FC-ABE1-40C182F9C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460C4B-2C77-4046-B05C-96D9D8310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377B18-EC5C-42B2-9D3F-1ED3EF483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BBE20D-93CE-412E-9966-356FB6F25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E5DA6-BB80-454D-9EE2-A316BA111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9A2427-DAB3-497B-B959-E4FC4825A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AECBFE6-B690-43AC-9AFD-89C55532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F5DF6C-9B41-4E55-8864-183A6D3737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8CEC0-403D-43BC-88E6-83423A9A5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F55C1B-0147-4547-AF29-CADC82FEC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709175-0F67-4BD3-B162-F2DB2D5D6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91D3B9-6DC8-4C2B-9811-01CBB21C2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74340-3140-4799-9E26-59FC44E458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9344A-6187-4828-BE12-B4AAE9CF9B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108FB-11F3-4C9A-AFB5-EA755DAE56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9814B-1093-4C7A-B7B0-DDB31D4CED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3720"/>
            <a:ext cx="77709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i="1" lang="en-US" sz="28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C07F9-24BA-4E13-A197-E94C9DE9FC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4F6D9F-CB00-45AE-98C5-B4C457CB75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4AB24-33FF-4EC1-8AD4-18EB174381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60C08D-5580-4776-BF14-7CCA5C6006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088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676520"/>
            <a:ext cx="7770960" cy="441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0" y="6245280"/>
            <a:ext cx="365616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162560" y="6397200"/>
            <a:ext cx="1903320" cy="4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85FBF0F-8E53-49BB-A5CC-596383F83ADA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1066680"/>
            <a:ext cx="3343320" cy="12240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09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it-IT" sz="1400" spc="-1" strike="noStrike">
                <a:solidFill>
                  <a:srgbClr val="ccecff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it-IT" sz="14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  <a:ea typeface="Arial Unicode MS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  <a:ea typeface="Arial Unicode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7162560" y="6400800"/>
            <a:ext cx="1903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1" lang="en-US" sz="1400" spc="-1" strike="noStrike">
                <a:solidFill>
                  <a:srgbClr val="0000cc"/>
                </a:solidFill>
                <a:latin typeface="Tahoma"/>
                <a:ea typeface="Arial Unicode MS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D078CA54-92A2-4697-8FC0-52ED0B108C95}" type="slidenum">
              <a:rPr b="1" lang="en-US" sz="1400" spc="-1" strike="noStrike">
                <a:solidFill>
                  <a:srgbClr val="0000cc"/>
                </a:solidFill>
                <a:latin typeface="Tahoma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172040" y="3029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5.wmf"/><Relationship Id="rId10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4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475920"/>
            <a:ext cx="7772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000" spc="-1" strike="noStrike">
                <a:solidFill>
                  <a:srgbClr val="0000cc"/>
                </a:solidFill>
                <a:latin typeface="Tahoma"/>
              </a:rPr>
              <a:t>LA RIUNIONE COME LUOGO </a:t>
            </a:r>
            <a:br>
              <a:rPr sz="3000"/>
            </a:br>
            <a:r>
              <a:rPr b="0" lang="it-IT" sz="3000" spc="-1" strike="noStrike">
                <a:solidFill>
                  <a:srgbClr val="0000cc"/>
                </a:solidFill>
                <a:latin typeface="Tahoma"/>
              </a:rPr>
              <a:t>DI MEDIAZIONE E NEGOZIAZIONE</a:t>
            </a:r>
            <a:br>
              <a:rPr sz="3000"/>
            </a:br>
            <a:r>
              <a:rPr b="0" lang="it-IT" sz="2800" spc="-1" strike="noStrike">
                <a:solidFill>
                  <a:srgbClr val="0000cc"/>
                </a:solidFill>
                <a:latin typeface="Tahoma"/>
              </a:rPr>
              <a:t>Dott. Enrico Flavio Giangreco</a:t>
            </a:r>
            <a:br>
              <a:rPr sz="2800"/>
            </a:br>
            <a:r>
              <a:rPr b="0" lang="it-IT" sz="2600" spc="-1" strike="noStrike">
                <a:solidFill>
                  <a:srgbClr val="0000cc"/>
                </a:solidFill>
                <a:latin typeface="Tahoma"/>
              </a:rPr>
              <a:t>Docente di Formazione</a:t>
            </a:r>
            <a:br>
              <a:rPr sz="2600"/>
            </a:br>
            <a:r>
              <a:rPr b="0" lang="it-IT" sz="2600" spc="-1" strike="noStrike">
                <a:solidFill>
                  <a:srgbClr val="0000cc"/>
                </a:solidFill>
                <a:latin typeface="Tahoma"/>
              </a:rPr>
              <a:t>Giornalista Professionista</a:t>
            </a:r>
            <a:endParaRPr b="0" lang="en-US" sz="26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058030-8228-49AA-968B-CCFD56618772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I requisiti di un grupp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Almeno tre person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Obiettivo comune interrelato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Contiguità fisica periodica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FA38D-C250-41C7-A9E1-85EA95FEE41A}" type="slidenum">
              <a:t>10</a:t>
            </a:fld>
          </a:p>
        </p:txBody>
      </p:sp>
    </p:spTree>
  </p:cSld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dur="indefinite" fill="hold">
                      <p:stCondLst>
                        <p:cond delay="indefinite"/>
                      </p:stCondLst>
                      <p:childTnLst>
                        <p:par>
                          <p:cTn id="2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 fill="hold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dur="indefinite" fill="hold">
                      <p:stCondLst>
                        <p:cond delay="indefinite"/>
                      </p:stCondLst>
                      <p:childTnLst>
                        <p:par>
                          <p:cTn id="2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1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dur="indefinite" fill="hold">
                      <p:stCondLst>
                        <p:cond delay="indefinite"/>
                      </p:stCondLst>
                      <p:childTnLst>
                        <p:par>
                          <p:cTn id="2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6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dur="indefinite" fill="hold">
                      <p:stCondLst>
                        <p:cond delay="indefinite"/>
                      </p:stCondLst>
                      <p:childTnLst>
                        <p:par>
                          <p:cTn id="2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Team building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it-IT" sz="2800" spc="-1" strike="noStrike" u="sng">
                <a:solidFill>
                  <a:srgbClr val="000066"/>
                </a:solidFill>
                <a:uFillTx/>
                <a:latin typeface="Tahoma"/>
              </a:rPr>
              <a:t>Gruppo di lavor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Committenza organizzativa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Obiettivo chiaro e condiviso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Analisi delle risorse e dei vincoli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(R.U./Tecnologia/Tempo/Budget)</a:t>
            </a:r>
            <a:r>
              <a:rPr b="0" lang="fr-FR" sz="2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6E620-1BC1-4E3D-8542-54FEB752FD03}" type="slidenum">
              <a:t>11</a:t>
            </a:fld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dur="indefinite" fill="hold">
                      <p:stCondLst>
                        <p:cond delay="indefinite"/>
                      </p:stCondLst>
                      <p:childTnLst>
                        <p:par>
                          <p:cTn id="2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 fill="hold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dur="indefinite" fill="hold">
                      <p:stCondLst>
                        <p:cond delay="indefinite"/>
                      </p:stCondLst>
                      <p:childTnLst>
                        <p:par>
                          <p:cTn id="2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dur="indefinite" fill="hold">
                      <p:stCondLst>
                        <p:cond delay="indefinite"/>
                      </p:stCondLst>
                      <p:childTnLst>
                        <p:par>
                          <p:cTn id="2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dur="indefinite" fill="hold">
                      <p:stCondLst>
                        <p:cond delay="indefinite"/>
                      </p:stCondLst>
                      <p:childTnLst>
                        <p:par>
                          <p:cTn id="2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dur="indefinite" fill="hold">
                      <p:stCondLst>
                        <p:cond delay="indefinite"/>
                      </p:stCondLst>
                      <p:childTnLst>
                        <p:par>
                          <p:cTn id="2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dur="indefinite" fill="hold">
                      <p:stCondLst>
                        <p:cond delay="indefinite"/>
                      </p:stCondLst>
                      <p:childTnLst>
                        <p:par>
                          <p:cTn id="2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e dinamiche di gruppo: le regole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511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All'interno di un gruppo è necessario concordare una serie di regole </a:t>
            </a: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FONDAMENTAL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76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7680" indent="-337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Gli scopi di tali regole son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33680" indent="-28116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stabilire un codice di comportamento comune durante le riunioni e le altre interazioni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733680" indent="-28116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offrire ai membri del team un quadro di riferimento per affrontare il comportamento reciproco, senza che l'interazione rischi continuamente di diventare una questione personale.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1274B-24BB-435D-95BE-E743645F8F85}" type="slidenum">
              <a:t>12</a:t>
            </a:fld>
          </a:p>
        </p:txBody>
      </p:sp>
    </p:spTree>
  </p:cSld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dur="indefinite" fill="hold">
                      <p:stCondLst>
                        <p:cond delay="indefinite"/>
                      </p:stCondLst>
                      <p:childTnLst>
                        <p:par>
                          <p:cTn id="2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 fill="hold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dur="indefinite" fill="hold">
                      <p:stCondLst>
                        <p:cond delay="indefinite"/>
                      </p:stCondLst>
                      <p:childTnLst>
                        <p:par>
                          <p:cTn id="3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dur="indefinite" fill="hold">
                      <p:stCondLst>
                        <p:cond delay="indefinite"/>
                      </p:stCondLst>
                      <p:childTnLst>
                        <p:par>
                          <p:cTn id="3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dur="indefinite" fill="hold">
                      <p:stCondLst>
                        <p:cond delay="indefinite"/>
                      </p:stCondLst>
                      <p:childTnLst>
                        <p:par>
                          <p:cTn id="3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5" dur="5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dur="indefinite" fill="hold">
                      <p:stCondLst>
                        <p:cond delay="indefinite"/>
                      </p:stCondLst>
                      <p:childTnLst>
                        <p:par>
                          <p:cTn id="3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e dinamiche di gruppo: le regole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Perché funzionino, le regole devon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essere prese di comune accordo da tutti i componenti del Team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essere sufficientemente specifiche da essere pratiche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crescere insieme al Team.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7412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Non devono, al contrari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essere d'ostacolo alla creatività del Team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essere usate come un'arma contro i singoli di fronte ai colleghi.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02FDA-B6A9-4E25-A228-8D1EF071E031}" type="slidenum">
              <a:t>13</a:t>
            </a:fld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dur="indefinite" fill="hold">
                      <p:stCondLst>
                        <p:cond delay="indefinite"/>
                      </p:stCondLst>
                      <p:childTnLst>
                        <p:par>
                          <p:cTn id="3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7" dur="500" fill="hold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dur="indefinite" fill="hold">
                      <p:stCondLst>
                        <p:cond delay="indefinite"/>
                      </p:stCondLst>
                      <p:childTnLst>
                        <p:par>
                          <p:cTn id="3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2" dur="5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dur="indefinite" fill="hold">
                      <p:stCondLst>
                        <p:cond delay="indefinite"/>
                      </p:stCondLst>
                      <p:childTnLst>
                        <p:par>
                          <p:cTn id="3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dur="indefinite" fill="hold">
                      <p:stCondLst>
                        <p:cond delay="indefinite"/>
                      </p:stCondLst>
                      <p:childTnLst>
                        <p:par>
                          <p:cTn id="3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5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dur="indefinite" fill="hold">
                      <p:stCondLst>
                        <p:cond delay="indefinite"/>
                      </p:stCondLst>
                      <p:childTnLst>
                        <p:par>
                          <p:cTn id="3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7" dur="5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dur="indefinite" fill="hold">
                      <p:stCondLst>
                        <p:cond delay="indefinite"/>
                      </p:stCondLst>
                      <p:childTnLst>
                        <p:par>
                          <p:cTn id="3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 fill="hold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dur="indefinite" fill="hold">
                      <p:stCondLst>
                        <p:cond delay="indefinite"/>
                      </p:stCondLst>
                      <p:childTnLst>
                        <p:par>
                          <p:cTn id="3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7" dur="500" fill="hold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dur="indefinite" fill="hold">
                      <p:stCondLst>
                        <p:cond delay="indefinite"/>
                      </p:stCondLst>
                      <p:childTnLst>
                        <p:par>
                          <p:cTn id="3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2" dur="500" fill="hold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Tahoma"/>
              </a:rPr>
              <a:t>Le dinamiche di gruppo che influenzano le decis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Alcune dinamiche portano i membri di un gruppo a prendere sovente delle decisioni che individualmente non prenderebbero (la logica del gregge). 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81193-FC12-40C4-94C4-1F69DAC8103B}" type="slidenum">
              <a:t>14</a:t>
            </a:fld>
          </a:p>
        </p:txBody>
      </p:sp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dur="indefinite" fill="hold">
                      <p:stCondLst>
                        <p:cond delay="indefinite"/>
                      </p:stCondLst>
                      <p:childTnLst>
                        <p:par>
                          <p:cTn id="3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dur="indefinite" fill="hold">
                      <p:stCondLst>
                        <p:cond delay="indefinite"/>
                      </p:stCondLst>
                      <p:childTnLst>
                        <p:par>
                          <p:cTn id="3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4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Tahoma"/>
              </a:rPr>
              <a:t>Le dinamiche di gruppo che influenzano le decis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Altre dinamiche spingono alcuni individui a esprimere opinioni estreme che non prenderebbero se non fossero sfidati o sollecitati da interlocutori in disaccordo (la logica del campanile);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60C27-A679-4BAC-93B7-B617D1A255FE}" type="slidenum">
              <a:t>15</a:t>
            </a:fld>
          </a:p>
        </p:txBody>
      </p:sp>
    </p:spTree>
  </p:cSld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dur="indefinite" fill="hold">
                      <p:stCondLst>
                        <p:cond delay="indefinite"/>
                      </p:stCondLst>
                      <p:childTnLst>
                        <p:par>
                          <p:cTn id="3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 fill="hold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dur="indefinite" fill="hold">
                      <p:stCondLst>
                        <p:cond delay="indefinite"/>
                      </p:stCondLst>
                      <p:childTnLst>
                        <p:par>
                          <p:cTn id="3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6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cc"/>
                </a:solidFill>
                <a:latin typeface="Tahoma"/>
              </a:rPr>
              <a:t>Le dinamiche di gruppo che influenzano le decis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2920" y="1413000"/>
            <a:ext cx="3814920" cy="45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0840" indent="0"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0840" indent="-33084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66"/>
                </a:solidFill>
                <a:latin typeface="Tahoma"/>
              </a:rPr>
              <a:t>Altre dinamiche nei gruppi riguardano i gruppi eccessivamente coesi, i quali spesso sono più interessati a mantenere un livello di coesione e consenso interno alto, piuttosto che individuare la migliore delle soluzioni. (la logica della banda)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85960" y="2982960"/>
            <a:ext cx="1612800" cy="1805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D2063F-78EA-4DF9-9F23-C20DB34FB6BD}" type="slidenum">
              <a:t>16</a:t>
            </a:fld>
          </a:p>
        </p:txBody>
      </p:sp>
    </p:spTree>
  </p:cSld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dur="indefinite" fill="hold">
                      <p:stCondLst>
                        <p:cond delay="indefinite"/>
                      </p:stCondLst>
                      <p:childTnLst>
                        <p:par>
                          <p:cTn id="3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3" dur="500" fill="hold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dur="indefinite" fill="hold">
                      <p:stCondLst>
                        <p:cond delay="indefinite"/>
                      </p:stCondLst>
                      <p:childTnLst>
                        <p:par>
                          <p:cTn id="3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dur="indefinite" fill="hold">
                      <p:stCondLst>
                        <p:cond delay="indefinite"/>
                      </p:stCondLst>
                      <p:childTnLst>
                        <p:par>
                          <p:cTn id="40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 fill="hold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Un approccio adeguato alle decis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42920" y="191628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ahoma"/>
              </a:rPr>
              <a:t>Favorire il dissenso nel gruppo, quindi, può, in qualche modo, stimolare lo spirito critic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104840" y="2666880"/>
            <a:ext cx="2990880" cy="2309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F1BE1-5D42-4E6A-917A-F5942716A791}" type="slidenum">
              <a:t>17</a:t>
            </a:fld>
          </a:p>
        </p:txBody>
      </p:sp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dur="indefinite" fill="hold">
                      <p:stCondLst>
                        <p:cond delay="indefinite"/>
                      </p:stCondLst>
                      <p:childTnLst>
                        <p:par>
                          <p:cTn id="4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0" dur="500" fill="hold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dur="indefinite" fill="hold">
                      <p:stCondLst>
                        <p:cond delay="indefinite"/>
                      </p:stCondLst>
                      <p:childTnLst>
                        <p:par>
                          <p:cTn id="4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dur="indefinite" fill="hold">
                      <p:stCondLst>
                        <p:cond delay="indefinite"/>
                      </p:stCondLst>
                      <p:childTnLst>
                        <p:par>
                          <p:cTn id="4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0" dur="500" fill="hold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a struttura del grupp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6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La dimensione psicologica della struttura d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gruppo è costituita d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Rapporti di amicizi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Simpatia / Antipati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ggressività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Competizione / Collaborazion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1026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4100" spc="-1" strike="noStrike">
                <a:solidFill>
                  <a:srgbClr val="000066"/>
                </a:solidFill>
                <a:latin typeface="Wingdings"/>
                <a:ea typeface="Wingdings"/>
              </a:rPr>
              <a:t></a:t>
            </a:r>
            <a:endParaRPr b="0" lang="en-US" sz="41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referenz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Rifiut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ssociazione di persone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Frequenza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Qualità delle relazioni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17F97-FFE4-405E-91EF-B42ACAEE6F83}" type="slidenum">
              <a:t>18</a:t>
            </a:fld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dur="indefinite" fill="hold">
                      <p:stCondLst>
                        <p:cond delay="indefinite"/>
                      </p:stCondLst>
                      <p:childTnLst>
                        <p:par>
                          <p:cTn id="4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 fill="hold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dur="indefinite" fill="hold">
                      <p:stCondLst>
                        <p:cond delay="indefinite"/>
                      </p:stCondLst>
                      <p:childTnLst>
                        <p:par>
                          <p:cTn id="4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2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dur="indefinite" fill="hold">
                      <p:stCondLst>
                        <p:cond delay="indefinite"/>
                      </p:stCondLst>
                      <p:childTnLst>
                        <p:par>
                          <p:cTn id="4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7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dur="indefinite" fill="hold">
                      <p:stCondLst>
                        <p:cond delay="indefinite"/>
                      </p:stCondLst>
                      <p:childTnLst>
                        <p:par>
                          <p:cTn id="4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2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dur="indefinite" fill="hold">
                      <p:stCondLst>
                        <p:cond delay="indefinite"/>
                      </p:stCondLst>
                      <p:childTnLst>
                        <p:par>
                          <p:cTn id="4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dur="indefinite" fill="hold">
                      <p:stCondLst>
                        <p:cond delay="indefinite"/>
                      </p:stCondLst>
                      <p:childTnLst>
                        <p:par>
                          <p:cTn id="4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dur="indefinite" fill="hold">
                      <p:stCondLst>
                        <p:cond delay="indefinite"/>
                      </p:stCondLst>
                      <p:childTnLst>
                        <p:par>
                          <p:cTn id="4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7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dur="indefinite" fill="hold">
                      <p:stCondLst>
                        <p:cond delay="indefinite"/>
                      </p:stCondLst>
                      <p:childTnLst>
                        <p:par>
                          <p:cTn id="4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dur="indefinite" fill="hold">
                      <p:stCondLst>
                        <p:cond delay="indefinite"/>
                      </p:stCondLst>
                      <p:childTnLst>
                        <p:par>
                          <p:cTn id="4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dur="indefinite" fill="hold">
                      <p:stCondLst>
                        <p:cond delay="indefinite"/>
                      </p:stCondLst>
                      <p:childTnLst>
                        <p:par>
                          <p:cTn id="4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2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dur="indefinite" fill="hold">
                      <p:stCondLst>
                        <p:cond delay="indefinite"/>
                      </p:stCondLst>
                      <p:childTnLst>
                        <p:par>
                          <p:cTn id="4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7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dur="indefinite" fill="hold">
                      <p:stCondLst>
                        <p:cond delay="indefinite"/>
                      </p:stCondLst>
                      <p:childTnLst>
                        <p:par>
                          <p:cTn id="4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2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dur="indefinite" fill="hold">
                      <p:stCondLst>
                        <p:cond delay="indefinite"/>
                      </p:stCondLst>
                      <p:childTnLst>
                        <p:par>
                          <p:cTn id="4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 fill="hold"/>
                                        <p:tgtEl>
                                          <p:spTgt spid="12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e forze in un grupp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642920" y="1676160"/>
            <a:ext cx="3814920" cy="45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’attrazione interpersonal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’influenza social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e regol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Il conformism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1714680" y="3008160"/>
            <a:ext cx="1755720" cy="1756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331E4-9DE9-4C73-B631-0CEE86DDDBDB}" type="slidenum">
              <a:t>19</a:t>
            </a:fld>
          </a:p>
        </p:txBody>
      </p:sp>
    </p:spTree>
  </p:cSld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dur="indefinite" fill="hold">
                      <p:stCondLst>
                        <p:cond delay="indefinite"/>
                      </p:stCondLst>
                      <p:childTnLst>
                        <p:par>
                          <p:cTn id="4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4" dur="500" fill="hold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dur="indefinite" fill="hold">
                      <p:stCondLst>
                        <p:cond delay="indefinite"/>
                      </p:stCondLst>
                      <p:childTnLst>
                        <p:par>
                          <p:cTn id="4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dur="indefinite" fill="hold">
                      <p:stCondLst>
                        <p:cond delay="indefinite"/>
                      </p:stCondLst>
                      <p:childTnLst>
                        <p:par>
                          <p:cTn id="5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4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dur="indefinite" fill="hold">
                      <p:stCondLst>
                        <p:cond delay="indefinite"/>
                      </p:stCondLst>
                      <p:childTnLst>
                        <p:par>
                          <p:cTn id="5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9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dur="indefinite" fill="hold">
                      <p:stCondLst>
                        <p:cond delay="indefinite"/>
                      </p:stCondLst>
                      <p:childTnLst>
                        <p:par>
                          <p:cTn id="5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4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dur="indefinite" fill="hold">
                      <p:stCondLst>
                        <p:cond delay="indefinite"/>
                      </p:stCondLst>
                      <p:childTnLst>
                        <p:par>
                          <p:cTn id="5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9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Obiettivi di apprendiment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10920" y="1412640"/>
            <a:ext cx="7846920" cy="4911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Identificare la comunicazione come leva di superamento dei conflitti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La comunicazione come strumento di mediazione per lavorare in team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Comunicare in una riunione per negoziare: un approccio assertivo per essere persuasivi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Utilizzare in modo appropriato le strategie negoziali nel governo di una riunione</a:t>
            </a:r>
            <a:endParaRPr b="0" lang="en-US" sz="3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9904EE-1B69-4CFA-A728-BF38A11D0CBD}" type="slidenum">
              <a:t>2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dur="indefinite" fill="hold">
                      <p:stCondLst>
                        <p:cond delay="indefinite"/>
                      </p:stCondLst>
                      <p:childTnLst>
                        <p:par>
                          <p:cTn id="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fill="hold">
                      <p:stCondLst>
                        <p:cond delay="indefinite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dur="indefinite" fill="hold">
                      <p:stCondLst>
                        <p:cond delay="indefinite"/>
                      </p:stCondLst>
                      <p:childTnLst>
                        <p:par>
                          <p:cTn id="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dur="indefinite" fill="hold">
                      <p:stCondLst>
                        <p:cond delay="indefinite"/>
                      </p:stCondLst>
                      <p:childTnLst>
                        <p:par>
                          <p:cTn id="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 fill="hold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Ruolo 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1640" y="1125000"/>
            <a:ext cx="38862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Posizione di un membro rispetto agli altri componenti di un grupp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1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Compiti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1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Funzion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1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Reazioni Comportamentali Ipotizzabil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741320" y="2965320"/>
            <a:ext cx="1703520" cy="1839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599B6-A1A8-4CBE-BB2C-AE3215147D71}" type="slidenum">
              <a:t>20</a:t>
            </a:fld>
          </a:p>
        </p:txBody>
      </p:sp>
    </p:spTree>
  </p:cSld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dur="indefinite" fill="hold">
                      <p:stCondLst>
                        <p:cond delay="indefinite"/>
                      </p:stCondLst>
                      <p:childTnLst>
                        <p:par>
                          <p:cTn id="5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dur="indefinite" fill="hold">
                      <p:stCondLst>
                        <p:cond delay="indefinite"/>
                      </p:stCondLst>
                      <p:childTnLst>
                        <p:par>
                          <p:cTn id="5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1" dur="5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dur="indefinite" fill="hold">
                      <p:stCondLst>
                        <p:cond delay="indefinite"/>
                      </p:stCondLst>
                      <p:childTnLst>
                        <p:par>
                          <p:cTn id="5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dur="indefinite" fill="hold">
                      <p:stCondLst>
                        <p:cond delay="indefinite"/>
                      </p:stCondLst>
                      <p:childTnLst>
                        <p:par>
                          <p:cTn id="5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1" dur="500" fill="hold"/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dur="indefinite" fill="hold">
                      <p:stCondLst>
                        <p:cond delay="indefinite"/>
                      </p:stCondLst>
                      <p:childTnLst>
                        <p:par>
                          <p:cTn id="5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dur="indefinite" fill="hold">
                      <p:stCondLst>
                        <p:cond delay="indefinite"/>
                      </p:stCondLst>
                      <p:childTnLst>
                        <p:par>
                          <p:cTn id="5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 fill="hold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Il gruppo e la soddisfazione dei bisog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LEADERSHIP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o di equilibri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MEMBERSHIP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i dell’individu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66"/>
                </a:solidFill>
                <a:latin typeface="Tahoma"/>
              </a:rPr>
              <a:t>GROUPSHIP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i del grupp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722600" y="2976480"/>
            <a:ext cx="1739880" cy="1817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762E4-C12A-4C23-BE33-EC296A3F9508}" type="slidenum">
              <a:t>21</a:t>
            </a:fld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dur="indefinite" fill="hold">
                      <p:stCondLst>
                        <p:cond delay="indefinite"/>
                      </p:stCondLst>
                      <p:childTnLst>
                        <p:par>
                          <p:cTn id="5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dur="indefinite" fill="hold">
                      <p:stCondLst>
                        <p:cond delay="indefinite"/>
                      </p:stCondLst>
                      <p:childTnLst>
                        <p:par>
                          <p:cTn id="5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dur="indefinite" fill="hold">
                      <p:stCondLst>
                        <p:cond delay="indefinite"/>
                      </p:stCondLst>
                      <p:childTnLst>
                        <p:par>
                          <p:cTn id="5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dur="indefinite" fill="hold">
                      <p:stCondLst>
                        <p:cond delay="indefinite"/>
                      </p:stCondLst>
                      <p:childTnLst>
                        <p:par>
                          <p:cTn id="5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dur="indefinite" fill="hold">
                      <p:stCondLst>
                        <p:cond delay="indefinite"/>
                      </p:stCondLst>
                      <p:childTnLst>
                        <p:par>
                          <p:cTn id="5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 fill="hold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dur="indefinite" fill="hold">
                      <p:stCondLst>
                        <p:cond delay="indefinite"/>
                      </p:stCondLst>
                      <p:childTnLst>
                        <p:par>
                          <p:cTn id="5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 fill="hold"/>
                                        <p:tgtEl>
                                          <p:spTgt spid="1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dur="indefinite" fill="hold">
                      <p:stCondLst>
                        <p:cond delay="indefinite"/>
                      </p:stCondLst>
                      <p:childTnLst>
                        <p:par>
                          <p:cTn id="5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 fill="hold"/>
                                        <p:tgtEl>
                                          <p:spTgt spid="1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dur="indefinite" fill="hold">
                      <p:stCondLst>
                        <p:cond delay="indefinite"/>
                      </p:stCondLst>
                      <p:childTnLst>
                        <p:par>
                          <p:cTn id="5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 fill="hold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Tahoma"/>
              </a:rPr>
              <a:t>La Comunicazione Assertiva </a:t>
            </a:r>
            <a:endParaRPr b="0" i="1" lang="en-US" sz="3200" spc="-1" strike="noStrike">
              <a:solidFill>
                <a:srgbClr val="ff0000"/>
              </a:solidFill>
              <a:latin typeface="Tahoma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Tahoma"/>
              </a:rPr>
              <a:t>per la Riunione</a:t>
            </a:r>
            <a:endParaRPr b="0" i="1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5B9CC1-0504-4BD3-AD80-906BA79D9D22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'ASSERTIVITA' SI BASA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-32112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Sul senso di responsabilità personale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22200" indent="-32112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Sulla consapevolezza dei diritti altru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1744560" y="2655720"/>
            <a:ext cx="1695600" cy="246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9030E-6F7A-4361-A92E-6831E2989817}" type="slidenum">
              <a:t>23</a:t>
            </a:fld>
          </a:p>
        </p:txBody>
      </p:sp>
    </p:spTree>
  </p:cSld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dur="indefinite" fill="hold">
                      <p:stCondLst>
                        <p:cond delay="indefinite"/>
                      </p:stCondLst>
                      <p:childTnLst>
                        <p:par>
                          <p:cTn id="5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0" dur="500" fill="hold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dur="indefinite" fill="hold">
                      <p:stCondLst>
                        <p:cond delay="indefinite"/>
                      </p:stCondLst>
                      <p:childTnLst>
                        <p:par>
                          <p:cTn id="6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5" dur="500" fill="hold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dur="indefinite" fill="hold">
                      <p:stCondLst>
                        <p:cond delay="indefinite"/>
                      </p:stCondLst>
                      <p:childTnLst>
                        <p:par>
                          <p:cTn id="6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0" dur="500" fill="hold"/>
                                        <p:tgtEl>
                                          <p:spTgt spid="1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dur="indefinite" fill="hold">
                      <p:stCondLst>
                        <p:cond delay="indefinite"/>
                      </p:stCondLst>
                      <p:childTnLst>
                        <p:par>
                          <p:cTn id="6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dur="indefinite" fill="hold">
                      <p:stCondLst>
                        <p:cond delay="indefinite"/>
                      </p:stCondLst>
                      <p:childTnLst>
                        <p:par>
                          <p:cTn id="6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0" dur="500" fill="hold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348000" y="259920"/>
            <a:ext cx="5796000" cy="685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L’assertività significa: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35880" indent="-33480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Essere onesti con se stessi e con gli altri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35880" indent="-33480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Avere la capacità di comunicare direttamente quale è la cosa che vogliamo, di cui abbiamo bisogno o che proviamo, ma </a:t>
            </a:r>
            <a:r>
              <a:rPr b="0" lang="it-IT" sz="2600" spc="-1" strike="noStrike" u="sng">
                <a:solidFill>
                  <a:srgbClr val="000066"/>
                </a:solidFill>
                <a:uFillTx/>
                <a:latin typeface="Tahoma"/>
              </a:rPr>
              <a:t>NON</a:t>
            </a: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 a spese del prossimo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35880" indent="-33480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Avere fiducia in se stessi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35880" indent="-33480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Tenere un atteggiamento positivo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35880" indent="-33480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Comprendere il punto di vista degli altri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35880" indent="-33480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Comportarsi in modo razionale e adulto. 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35880" indent="-33480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Riuscire a negoziare e a raggiungere un compromesso realizzabile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35880" indent="-334800">
              <a:lnSpc>
                <a:spcPct val="8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600" spc="-1" strike="noStrike">
                <a:solidFill>
                  <a:srgbClr val="000066"/>
                </a:solidFill>
                <a:latin typeface="Tahoma"/>
              </a:rPr>
              <a:t>Avere rispetto per se e per gli altri.</a:t>
            </a: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9"/>
          <a:stretch/>
        </p:blipFill>
        <p:spPr>
          <a:xfrm>
            <a:off x="1035000" y="3317760"/>
            <a:ext cx="663480" cy="100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C5AAE2-C8C4-4401-AF5C-1BE51E17F6CF}" type="slidenum">
              <a:t>24</a:t>
            </a:fld>
          </a:p>
        </p:txBody>
      </p:sp>
    </p:spTree>
  </p:cSld>
  <p:timing>
    <p:tnLst>
      <p:par>
        <p:cTn id="621" dur="indefinite" restart="never" nodeType="tmRoot">
          <p:childTnLst>
            <p:seq>
              <p:cTn id="622" dur="indefinite" nodeType="mainSeq">
                <p:childTnLst>
                  <p:par>
                    <p:cTn id="623" dur="indefinite" fill="hold">
                      <p:stCondLst>
                        <p:cond delay="indefinite"/>
                      </p:stCondLst>
                      <p:childTnLst>
                        <p:par>
                          <p:cTn id="6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7" dur="500" fill="hold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dur="indefinite" fill="hold">
                      <p:stCondLst>
                        <p:cond delay="indefinite"/>
                      </p:stCondLst>
                      <p:childTnLst>
                        <p:par>
                          <p:cTn id="6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dur="indefinite" fill="hold">
                      <p:stCondLst>
                        <p:cond delay="indefinite"/>
                      </p:stCondLst>
                      <p:childTnLst>
                        <p:par>
                          <p:cTn id="6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dur="indefinite" fill="hold">
                      <p:stCondLst>
                        <p:cond delay="indefinite"/>
                      </p:stCondLst>
                      <p:childTnLst>
                        <p:par>
                          <p:cTn id="6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dur="indefinite" fill="hold">
                      <p:stCondLst>
                        <p:cond delay="indefinite"/>
                      </p:stCondLst>
                      <p:childTnLst>
                        <p:par>
                          <p:cTn id="6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7" dur="500" fill="hold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dur="indefinite" fill="hold">
                      <p:stCondLst>
                        <p:cond delay="indefinite"/>
                      </p:stCondLst>
                      <p:childTnLst>
                        <p:par>
                          <p:cTn id="6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2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dur="indefinite" fill="hold">
                      <p:stCondLst>
                        <p:cond delay="indefinite"/>
                      </p:stCondLst>
                      <p:childTnLst>
                        <p:par>
                          <p:cTn id="6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7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dur="indefinite" fill="hold">
                      <p:stCondLst>
                        <p:cond delay="indefinite"/>
                      </p:stCondLst>
                      <p:childTnLst>
                        <p:par>
                          <p:cTn id="6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2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dur="indefinite" fill="hold">
                      <p:stCondLst>
                        <p:cond delay="indefinite"/>
                      </p:stCondLst>
                      <p:childTnLst>
                        <p:par>
                          <p:cTn id="6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7" dur="500" fill="hold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dur="indefinite" fill="hold">
                      <p:stCondLst>
                        <p:cond delay="indefinite"/>
                      </p:stCondLst>
                      <p:childTnLst>
                        <p:par>
                          <p:cTn id="6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2" dur="500" fill="hold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dur="indefinite" fill="hold">
                      <p:stCondLst>
                        <p:cond delay="indefinite"/>
                      </p:stCondLst>
                      <p:childTnLst>
                        <p:par>
                          <p:cTn id="6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7" dur="500" fill="hold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42920" y="1052640"/>
            <a:ext cx="3814920" cy="51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Tahoma"/>
              </a:rPr>
              <a:t>L’assertività NON significa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436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Fare di testa propria e vincere sempr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436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mparare a pappagallo una serie di tecniche e trucchetti prestabiliti da utilizzare ogni volta che si presenta una soluzione difficil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5800" indent="-32436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Manovrare e controllare gli altri in modo da averla sempre vint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4"/>
          <a:stretch/>
        </p:blipFill>
        <p:spPr>
          <a:xfrm>
            <a:off x="1873080" y="2894040"/>
            <a:ext cx="1440000" cy="1982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E40AE-0503-4D80-8F54-5384E726E769}" type="slidenum">
              <a:t>25</a:t>
            </a:fld>
          </a:p>
        </p:txBody>
      </p:sp>
    </p:spTree>
  </p:cSld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dur="indefinite" fill="hold">
                      <p:stCondLst>
                        <p:cond delay="indefinite"/>
                      </p:stCondLst>
                      <p:childTnLst>
                        <p:par>
                          <p:cTn id="6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4" dur="500" fill="hold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dur="indefinite" fill="hold">
                      <p:stCondLst>
                        <p:cond delay="indefinite"/>
                      </p:stCondLst>
                      <p:childTnLst>
                        <p:par>
                          <p:cTn id="6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9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dur="indefinite" fill="hold">
                      <p:stCondLst>
                        <p:cond delay="indefinite"/>
                      </p:stCondLst>
                      <p:childTnLst>
                        <p:par>
                          <p:cTn id="6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4" dur="500" fill="hold"/>
                                        <p:tgtEl>
                                          <p:spTgt spid="1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dur="indefinite" fill="hold">
                      <p:stCondLst>
                        <p:cond delay="indefinite"/>
                      </p:stCondLst>
                      <p:childTnLst>
                        <p:par>
                          <p:cTn id="6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9" dur="500" fill="hold"/>
                                        <p:tgtEl>
                                          <p:spTgt spid="1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dur="indefinite" fill="hold">
                      <p:stCondLst>
                        <p:cond delay="indefinite"/>
                      </p:stCondLst>
                      <p:childTnLst>
                        <p:par>
                          <p:cTn id="7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4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dur="indefinite" fill="hold">
                      <p:stCondLst>
                        <p:cond delay="indefinite"/>
                      </p:stCondLst>
                      <p:childTnLst>
                        <p:par>
                          <p:cTn id="7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9" dur="500" fill="hold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42920" y="1676520"/>
            <a:ext cx="3814920" cy="46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Tahoma"/>
              </a:rPr>
              <a:t>L’assertività permette: 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48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 avere molte più possibilità di ottenere ciò che si vuole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5880" indent="-3348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 accettare positivamente se stesso e il proprio comportament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1725480" y="3035160"/>
            <a:ext cx="1733760" cy="1700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5DC46-2F40-4D32-A167-00B2D1B90EA2}" type="slidenum">
              <a:t>26</a:t>
            </a:fld>
          </a:p>
        </p:txBody>
      </p:sp>
    </p:spTree>
  </p:cSld>
  <p:timing>
    <p:tnLst>
      <p:par>
        <p:cTn id="710" dur="indefinite" restart="never" nodeType="tmRoot">
          <p:childTnLst>
            <p:seq>
              <p:cTn id="711" dur="indefinite" nodeType="mainSeq">
                <p:childTnLst>
                  <p:par>
                    <p:cTn id="712" dur="indefinite" fill="hold">
                      <p:stCondLst>
                        <p:cond delay="indefinite"/>
                      </p:stCondLst>
                      <p:childTnLst>
                        <p:par>
                          <p:cTn id="7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6" dur="500" fill="hold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dur="indefinite" fill="hold">
                      <p:stCondLst>
                        <p:cond delay="indefinite"/>
                      </p:stCondLst>
                      <p:childTnLst>
                        <p:par>
                          <p:cTn id="7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1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dur="indefinite" fill="hold">
                      <p:stCondLst>
                        <p:cond delay="indefinite"/>
                      </p:stCondLst>
                      <p:childTnLst>
                        <p:par>
                          <p:cTn id="7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6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dur="indefinite" fill="hold">
                      <p:stCondLst>
                        <p:cond delay="indefinite"/>
                      </p:stCondLst>
                      <p:childTnLst>
                        <p:par>
                          <p:cTn id="7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1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dur="indefinite" fill="hold">
                      <p:stCondLst>
                        <p:cond delay="indefinite"/>
                      </p:stCondLst>
                      <p:childTnLst>
                        <p:par>
                          <p:cTn id="7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6" dur="500" fill="hold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e tre fasi del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72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er acquisire assertività vi sono tre semplici fasi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8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ahoma"/>
              </a:rPr>
              <a:t>FASE 1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ASCOLTATE ATTIVAMENTE QUELLO CHE VIENE DETTO, POI MOSTRATE ALL'ALTRA PERSONA CHE AVETE SENTITO E CAPIT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8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ahoma"/>
              </a:rPr>
              <a:t>FASE 2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TE COSA PENSATE O COSA PROVAT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-33804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66"/>
                </a:solidFill>
                <a:latin typeface="Tahoma"/>
              </a:rPr>
              <a:t>FASE 3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DITE COSA VOLETE CHE ACCAD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11DABD-E4FE-473C-9587-DFBDE526F36A}" type="slidenum">
              <a:t>27</a:t>
            </a:fld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dur="indefinite" fill="hold">
                      <p:stCondLst>
                        <p:cond delay="indefinite"/>
                      </p:stCondLst>
                      <p:childTnLst>
                        <p:par>
                          <p:cTn id="7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3" dur="500" fill="hold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dur="indefinite" fill="hold">
                      <p:stCondLst>
                        <p:cond delay="indefinite"/>
                      </p:stCondLst>
                      <p:childTnLst>
                        <p:par>
                          <p:cTn id="7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dur="indefinite" fill="hold">
                      <p:stCondLst>
                        <p:cond delay="indefinite"/>
                      </p:stCondLst>
                      <p:childTnLst>
                        <p:par>
                          <p:cTn id="7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dur="indefinite" fill="hold">
                      <p:stCondLst>
                        <p:cond delay="indefinite"/>
                      </p:stCondLst>
                      <p:childTnLst>
                        <p:par>
                          <p:cTn id="7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dur="indefinite" fill="hold">
                      <p:stCondLst>
                        <p:cond delay="indefinite"/>
                      </p:stCondLst>
                      <p:childTnLst>
                        <p:par>
                          <p:cTn id="7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dur="indefinite" fill="hold">
                      <p:stCondLst>
                        <p:cond delay="indefinite"/>
                      </p:stCondLst>
                      <p:childTnLst>
                        <p:par>
                          <p:cTn id="7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dur="indefinite" fill="hold">
                      <p:stCondLst>
                        <p:cond delay="indefinite"/>
                      </p:stCondLst>
                      <p:childTnLst>
                        <p:par>
                          <p:cTn id="7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 fill="hold"/>
                                        <p:tgtEl>
                                          <p:spTgt spid="1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dur="indefinite" fill="hold">
                      <p:stCondLst>
                        <p:cond delay="indefinite"/>
                      </p:stCondLst>
                      <p:childTnLst>
                        <p:par>
                          <p:cTn id="7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 fill="hold"/>
                                        <p:tgtEl>
                                          <p:spTgt spid="1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Tecniche chiave dell’assertività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24000" y="907920"/>
            <a:ext cx="449748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inguaggio del corp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Tecnica del disco incantat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re N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Compromesso realizzabile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Annebbiament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aloghi interior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Affermazione di sentimenti negativ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Affermazioni di disaccord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9"/>
          <a:stretch/>
        </p:blipFill>
        <p:spPr>
          <a:xfrm>
            <a:off x="1104840" y="2595600"/>
            <a:ext cx="2389320" cy="255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94866-DD21-427B-A112-27F25B2979EC}" type="slidenum">
              <a:t>28</a:t>
            </a:fld>
          </a:p>
        </p:txBody>
      </p:sp>
    </p:spTree>
  </p:cSld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dur="indefinite" fill="hold">
                      <p:stCondLst>
                        <p:cond delay="indefinite"/>
                      </p:stCondLst>
                      <p:childTnLst>
                        <p:par>
                          <p:cTn id="78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5" dur="500" fill="hold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dur="indefinite" fill="hold">
                      <p:stCondLst>
                        <p:cond delay="indefinite"/>
                      </p:stCondLst>
                      <p:childTnLst>
                        <p:par>
                          <p:cTn id="78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0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dur="indefinite" fill="hold">
                      <p:stCondLst>
                        <p:cond delay="indefinite"/>
                      </p:stCondLst>
                      <p:childTnLst>
                        <p:par>
                          <p:cTn id="7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5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dur="indefinite" fill="hold">
                      <p:stCondLst>
                        <p:cond delay="indefinite"/>
                      </p:stCondLst>
                      <p:childTnLst>
                        <p:par>
                          <p:cTn id="79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0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dur="indefinite" fill="hold">
                      <p:stCondLst>
                        <p:cond delay="indefinite"/>
                      </p:stCondLst>
                      <p:childTnLst>
                        <p:par>
                          <p:cTn id="8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6" dur="indefinite" fill="hold">
                      <p:stCondLst>
                        <p:cond delay="indefinite"/>
                      </p:stCondLst>
                      <p:childTnLst>
                        <p:par>
                          <p:cTn id="8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0" dur="500" fill="hold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dur="indefinite" fill="hold">
                      <p:stCondLst>
                        <p:cond delay="indefinite"/>
                      </p:stCondLst>
                      <p:childTnLst>
                        <p:par>
                          <p:cTn id="8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5" dur="500" fill="hold"/>
                                        <p:tgtEl>
                                          <p:spTgt spid="1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dur="indefinite" fill="hold">
                      <p:stCondLst>
                        <p:cond delay="indefinite"/>
                      </p:stCondLst>
                      <p:childTnLst>
                        <p:par>
                          <p:cTn id="8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0" dur="500" fill="hold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dur="indefinite" fill="hold">
                      <p:stCondLst>
                        <p:cond delay="indefinite"/>
                      </p:stCondLst>
                      <p:childTnLst>
                        <p:par>
                          <p:cTn id="8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25" dur="500" fill="hold"/>
                                        <p:tgtEl>
                                          <p:spTgt spid="1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dur="indefinite" fill="hold">
                      <p:stCondLst>
                        <p:cond delay="indefinite"/>
                      </p:stCondLst>
                      <p:childTnLst>
                        <p:par>
                          <p:cTn id="8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0" dur="5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Comunicare per negoziare: diventare assertivi per essere persuasiv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50920" y="1052640"/>
            <a:ext cx="4567320" cy="57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Migliorare il modo di comunicare, combattere l’ansia, in una parola, padroneggiare la situazione, significa diventare assertivi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4440" indent="-3344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ventare assertivi consente il creare un “potere positivo”, l’esercitare una leadership attiva, l’avere credibilità e, quindi, l’</a:t>
            </a:r>
            <a:r>
              <a:rPr b="0" lang="it-IT" sz="2800" spc="-1" strike="noStrike" u="sng">
                <a:solidFill>
                  <a:srgbClr val="000066"/>
                </a:solidFill>
                <a:uFillTx/>
                <a:latin typeface="Tahoma"/>
              </a:rPr>
              <a:t>essere persuasivi</a:t>
            </a: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3"/>
          <a:stretch/>
        </p:blipFill>
        <p:spPr>
          <a:xfrm>
            <a:off x="1035000" y="2882880"/>
            <a:ext cx="1619280" cy="1717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F4857-06C3-4A84-919F-DF60E81DA701}" type="slidenum">
              <a:t>29</a:t>
            </a:fld>
          </a:p>
        </p:txBody>
      </p:sp>
    </p:spTree>
  </p:cSld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dur="indefinite" fill="hold">
                      <p:stCondLst>
                        <p:cond delay="indefinite"/>
                      </p:stCondLst>
                      <p:childTnLst>
                        <p:par>
                          <p:cTn id="8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7" dur="500" fill="hold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dur="indefinite" fill="hold">
                      <p:stCondLst>
                        <p:cond delay="indefinite"/>
                      </p:stCondLst>
                      <p:childTnLst>
                        <p:par>
                          <p:cTn id="8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dur="indefinite" fill="hold">
                      <p:stCondLst>
                        <p:cond delay="indefinite"/>
                      </p:stCondLst>
                      <p:childTnLst>
                        <p:par>
                          <p:cTn id="8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dur="indefinite" fill="hold">
                      <p:stCondLst>
                        <p:cond delay="indefinite"/>
                      </p:stCondLst>
                      <p:childTnLst>
                        <p:par>
                          <p:cTn id="8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2" dur="500" fill="hold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Gli assiomi della comunicazione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687480" y="1676160"/>
            <a:ext cx="47703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63680" indent="-463680">
              <a:spcBef>
                <a:spcPts val="601"/>
              </a:spcBef>
              <a:buClr>
                <a:srgbClr val="ff0000"/>
              </a:buClr>
              <a:buSzPct val="75000"/>
              <a:buFont typeface="Tahoma"/>
              <a:buAutoNum type="arabicPeriod"/>
              <a:tabLst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Non si può non comunicar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3680" indent="-463680">
              <a:spcBef>
                <a:spcPts val="601"/>
              </a:spcBef>
              <a:buClr>
                <a:srgbClr val="ff0000"/>
              </a:buClr>
              <a:buSzPct val="75000"/>
              <a:buFont typeface="Tahoma"/>
              <a:buAutoNum type="arabicPeriod"/>
              <a:tabLst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Ogni messaggio presenta un aspetto di contenuto e uno di relazione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3680" indent="-463680">
              <a:spcBef>
                <a:spcPts val="601"/>
              </a:spcBef>
              <a:buClr>
                <a:srgbClr val="ff0000"/>
              </a:buClr>
              <a:buSzPct val="75000"/>
              <a:buFont typeface="Tahoma"/>
              <a:buAutoNum type="arabicPeriod"/>
              <a:tabLst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l significato di una sequenza di informazioni scritte è dato dalla punteggiatura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3680" indent="-463680">
              <a:spcBef>
                <a:spcPts val="601"/>
              </a:spcBef>
              <a:buClr>
                <a:srgbClr val="ff0000"/>
              </a:buClr>
              <a:buSzPct val="75000"/>
              <a:buFont typeface="Tahoma"/>
              <a:buAutoNum type="arabicPeriod"/>
              <a:tabLst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Esistono relazioni simmetriche e relazioni complementari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463680" indent="-463680">
              <a:spcBef>
                <a:spcPts val="601"/>
              </a:spcBef>
              <a:buClr>
                <a:srgbClr val="ff0000"/>
              </a:buClr>
              <a:buSzPct val="75000"/>
              <a:buFont typeface="Tahoma"/>
              <a:buAutoNum type="arabicPeriod"/>
              <a:tabLst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È gratuito supporre che l'altro colga le stesse informazioni e le elabori nello stesso mod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71440" y="2882880"/>
            <a:ext cx="1370160" cy="1919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A3DB7-AD60-4A15-ADFB-D6D6A11652E4}" type="slidenum">
              <a:t>3</a:t>
            </a:fld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dur="indefinite" fill="hold">
                      <p:stCondLst>
                        <p:cond delay="indefinite"/>
                      </p:stCondLst>
                      <p:childTnLst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dur="indefinite" fill="hold">
                      <p:stCondLst>
                        <p:cond delay="indefinite"/>
                      </p:stCondLst>
                      <p:childTnLst>
                        <p:par>
                          <p:cTn id="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dur="indefinite" fill="hold">
                      <p:stCondLst>
                        <p:cond delay="indefinite"/>
                      </p:stCondLst>
                      <p:childTnLst>
                        <p:par>
                          <p:cTn id="4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dur="indefinite" fill="hold">
                      <p:stCondLst>
                        <p:cond delay="indefinite"/>
                      </p:stCondLst>
                      <p:childTnLst>
                        <p:par>
                          <p:cTn id="5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dur="indefinite" fill="hold">
                      <p:stCondLst>
                        <p:cond delay="indefinite"/>
                      </p:stCondLst>
                      <p:childTnLst>
                        <p:par>
                          <p:cTn id="5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fill="hold">
                      <p:stCondLst>
                        <p:cond delay="indefinite"/>
                      </p:stCondLst>
                      <p:childTnLst>
                        <p:par>
                          <p:cTn id="6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 fill="hold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dur="indefinite" fill="hold">
                      <p:stCondLst>
                        <p:cond delay="indefinite"/>
                      </p:stCondLst>
                      <p:childTnLst>
                        <p:par>
                          <p:cTn id="6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 fill="hold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Comunicare per negoziare: diventare assertivi per essere persuasiv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700000" y="1341360"/>
            <a:ext cx="5722920" cy="533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Per far questo è necessario superare: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lvl="1" marL="718920" indent="-27540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il rifiuto psicologico del potere e, quindi, delle responsabilità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718920" indent="-27540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il rifiuto, a priori, delle situazioni conflittuali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718920" indent="-27540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’eccessiva importanza data al “giudizio” degli altri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718920" indent="-27540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’incapacità di “fidarsi” degli altri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718920" indent="-27540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a paura di non “riuscire”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718920" indent="-27540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’anticipo mentale delle “conseguenze negative” e, quindi, l’inibizione dell’immaginazione positiva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718920" indent="-27540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o scarso livello di “speranza” nel futuro;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  <a:p>
            <a:pPr lvl="1" marL="718920" indent="-275400">
              <a:lnSpc>
                <a:spcPct val="80000"/>
              </a:lnSpc>
              <a:spcBef>
                <a:spcPts val="550"/>
              </a:spcBef>
              <a:buClr>
                <a:srgbClr val="ff6600"/>
              </a:buClr>
              <a:buFont typeface="Tahoma"/>
              <a:buChar char="–"/>
              <a:tabLst>
                <a:tab algn="l" pos="34308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200" spc="-1" strike="noStrike">
                <a:solidFill>
                  <a:srgbClr val="0000cc"/>
                </a:solidFill>
                <a:latin typeface="Tahoma"/>
              </a:rPr>
              <a:t>l’impossibilità di credere alle proprie capacità di “influenzare” gli altri.</a:t>
            </a:r>
            <a:endParaRPr b="0" lang="en-US" sz="22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035000" y="2739960"/>
            <a:ext cx="1400400" cy="192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0630B-2553-432A-AAC9-035FBB1D8774}" type="slidenum">
              <a:t>30</a:t>
            </a:fld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dur="indefinite" fill="hold">
                      <p:stCondLst>
                        <p:cond delay="indefinite"/>
                      </p:stCondLst>
                      <p:childTnLst>
                        <p:par>
                          <p:cTn id="8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9" dur="500" fill="hold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dur="indefinite" fill="hold">
                      <p:stCondLst>
                        <p:cond delay="indefinite"/>
                      </p:stCondLst>
                      <p:childTnLst>
                        <p:par>
                          <p:cTn id="86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4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dur="indefinite" fill="hold">
                      <p:stCondLst>
                        <p:cond delay="indefinite"/>
                      </p:stCondLst>
                      <p:childTnLst>
                        <p:par>
                          <p:cTn id="86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9" dur="5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dur="indefinite" fill="hold">
                      <p:stCondLst>
                        <p:cond delay="indefinite"/>
                      </p:stCondLst>
                      <p:childTnLst>
                        <p:par>
                          <p:cTn id="8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4" dur="500" fill="hold"/>
                                        <p:tgtEl>
                                          <p:spTgt spid="1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dur="indefinite" fill="hold">
                      <p:stCondLst>
                        <p:cond delay="indefinite"/>
                      </p:stCondLst>
                      <p:childTnLst>
                        <p:par>
                          <p:cTn id="8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9" dur="5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dur="indefinite" fill="hold">
                      <p:stCondLst>
                        <p:cond delay="indefinite"/>
                      </p:stCondLst>
                      <p:childTnLst>
                        <p:par>
                          <p:cTn id="8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4" dur="500" fill="hold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dur="indefinite" fill="hold">
                      <p:stCondLst>
                        <p:cond delay="indefinite"/>
                      </p:stCondLst>
                      <p:childTnLst>
                        <p:par>
                          <p:cTn id="8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9" dur="500" fill="hold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dur="indefinite" fill="hold">
                      <p:stCondLst>
                        <p:cond delay="indefinite"/>
                      </p:stCondLst>
                      <p:childTnLst>
                        <p:par>
                          <p:cTn id="8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4" dur="500" fill="hold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dur="indefinite" fill="hold">
                      <p:stCondLst>
                        <p:cond delay="indefinite"/>
                      </p:stCondLst>
                      <p:childTnLst>
                        <p:par>
                          <p:cTn id="8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9" dur="500" fill="hold"/>
                                        <p:tgtEl>
                                          <p:spTgt spid="1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dur="indefinite" fill="hold">
                      <p:stCondLst>
                        <p:cond delay="indefinite"/>
                      </p:stCondLst>
                      <p:childTnLst>
                        <p:par>
                          <p:cTn id="9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4" dur="500" fill="hold"/>
                                        <p:tgtEl>
                                          <p:spTgt spid="15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dur="indefinite" fill="hold">
                      <p:stCondLst>
                        <p:cond delay="indefinite"/>
                      </p:stCondLst>
                      <p:childTnLst>
                        <p:par>
                          <p:cTn id="9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9" dur="500" fill="hold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Comunicare per negoziare: diventare assertivi per essere persuasiv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95640" y="1412640"/>
            <a:ext cx="4430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0760" indent="-3207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E’ bene tenere, sempre, presente che ognuno possiede delle risorse e delle potenzialità, che può utilizzare meglio e valorizzare, che possono diventare i punti di forza di un proprio “stile comunicativo” personale e soggettivo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  <a:p>
            <a:pPr marL="320760" indent="-3207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66"/>
                </a:solidFill>
                <a:latin typeface="Tahoma"/>
              </a:rPr>
              <a:t>Il comportamento assertivo è una qualità che permette a un soggetto di raggiungere gli obiettivi prefissati senza creare situazioni conflittuali.</a:t>
            </a:r>
            <a:endParaRPr b="0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3"/>
          <a:stretch/>
        </p:blipFill>
        <p:spPr>
          <a:xfrm>
            <a:off x="1374840" y="2451240"/>
            <a:ext cx="1498680" cy="2481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8400B3-0558-4F65-ADC0-85C127C1AC84}" type="slidenum">
              <a:t>31</a:t>
            </a:fld>
          </a:p>
        </p:txBody>
      </p:sp>
    </p:spTree>
  </p:cSld>
  <p:timing>
    <p:tnLst>
      <p:par>
        <p:cTn id="910" dur="indefinite" restart="never" nodeType="tmRoot">
          <p:childTnLst>
            <p:seq>
              <p:cTn id="911" dur="indefinite" nodeType="mainSeq">
                <p:childTnLst>
                  <p:par>
                    <p:cTn id="912" dur="indefinite" fill="hold">
                      <p:stCondLst>
                        <p:cond delay="indefinite"/>
                      </p:stCondLst>
                      <p:childTnLst>
                        <p:par>
                          <p:cTn id="9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6" dur="500" fill="hold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dur="indefinite" fill="hold">
                      <p:stCondLst>
                        <p:cond delay="indefinite"/>
                      </p:stCondLst>
                      <p:childTnLst>
                        <p:par>
                          <p:cTn id="9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1" dur="5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2" dur="indefinite" fill="hold">
                      <p:stCondLst>
                        <p:cond delay="indefinite"/>
                      </p:stCondLst>
                      <p:childTnLst>
                        <p:par>
                          <p:cTn id="92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6" dur="5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dur="indefinite" fill="hold">
                      <p:stCondLst>
                        <p:cond delay="indefinite"/>
                      </p:stCondLst>
                      <p:childTnLst>
                        <p:par>
                          <p:cTn id="9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1" dur="500" fill="hold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I piani della comunicazione assertiva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24360" y="1341000"/>
            <a:ext cx="453384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a comunicazione assertiva si esprime su piani differenti che riguardano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il viso (contatto visivo; espressione del viso)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il corpo (gesti; posizione del corpo)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la voce (tono; inflessione; volume);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  <a:p>
            <a:pPr lvl="1" marL="741240" indent="-284040">
              <a:spcBef>
                <a:spcPts val="601"/>
              </a:spcBef>
              <a:buClr>
                <a:srgbClr val="ff6600"/>
              </a:buClr>
              <a:buFont typeface="Tahoma"/>
              <a:buChar char="–"/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400" spc="-1" strike="noStrike">
                <a:solidFill>
                  <a:srgbClr val="0000cc"/>
                </a:solidFill>
                <a:latin typeface="Tahoma"/>
              </a:rPr>
              <a:t>i tempi (andata; ritorno).</a:t>
            </a:r>
            <a:endParaRPr b="0" lang="en-US" sz="24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1171440" y="2739960"/>
            <a:ext cx="1663920" cy="1866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4720F-E63E-46AA-B7F8-27377D3F1996}" type="slidenum">
              <a:t>32</a:t>
            </a:fld>
          </a:p>
        </p:txBody>
      </p:sp>
    </p:spTree>
  </p:cSld>
  <p:timing>
    <p:tnLst>
      <p:par>
        <p:cTn id="932" dur="indefinite" restart="never" nodeType="tmRoot">
          <p:childTnLst>
            <p:seq>
              <p:cTn id="933" dur="indefinite" nodeType="mainSeq">
                <p:childTnLst>
                  <p:par>
                    <p:cTn id="934" dur="indefinite" fill="hold">
                      <p:stCondLst>
                        <p:cond delay="indefinite"/>
                      </p:stCondLst>
                      <p:childTnLst>
                        <p:par>
                          <p:cTn id="93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8" dur="500" fill="hold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9" dur="indefinite" fill="hold">
                      <p:stCondLst>
                        <p:cond delay="indefinite"/>
                      </p:stCondLst>
                      <p:childTnLst>
                        <p:par>
                          <p:cTn id="9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3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4" dur="indefinite" fill="hold">
                      <p:stCondLst>
                        <p:cond delay="indefinite"/>
                      </p:stCondLst>
                      <p:childTnLst>
                        <p:par>
                          <p:cTn id="9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8" dur="5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dur="indefinite" fill="hold">
                      <p:stCondLst>
                        <p:cond delay="indefinite"/>
                      </p:stCondLst>
                      <p:childTnLst>
                        <p:par>
                          <p:cTn id="9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3" dur="5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dur="indefinite" fill="hold">
                      <p:stCondLst>
                        <p:cond delay="indefinite"/>
                      </p:stCondLst>
                      <p:childTnLst>
                        <p:par>
                          <p:cTn id="95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8" dur="5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dur="indefinite" fill="hold">
                      <p:stCondLst>
                        <p:cond delay="indefinite"/>
                      </p:stCondLst>
                      <p:childTnLst>
                        <p:par>
                          <p:cTn id="9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3" dur="5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4" dur="indefinite" fill="hold">
                      <p:stCondLst>
                        <p:cond delay="indefinite"/>
                      </p:stCondLst>
                      <p:childTnLst>
                        <p:par>
                          <p:cTn id="9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8" dur="500" fill="hold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Tahoma"/>
              </a:rPr>
              <a:t>La Riunione</a:t>
            </a:r>
            <a:endParaRPr b="0" i="1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8ECB0E-09B8-41DB-B555-D00D542A9C52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349200" y="2297160"/>
            <a:ext cx="84628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7520" y="1905120"/>
            <a:ext cx="1429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TIPOLOGI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129120" y="1917720"/>
            <a:ext cx="1301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OBIETTIV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9840" y="2421000"/>
            <a:ext cx="1769400" cy="3655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INFORMA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CONSULT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DECISION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125520" y="2374920"/>
            <a:ext cx="589356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Fornire dati preliminari e aggiornare situazioni   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Esplicitare politiche dell’e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Dare disposizioni e diffondere conoscenz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Facilitare l’omogeneità del modo di lavora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Raccogliere pare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Valutare aspetti global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Confrontare competenze specifi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Elaborare alternative e preparare decisio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Approvare una raccomanda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Scegliere tra varie propos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Definire piani d’a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Stabilire responsabil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Avviare nuovi proget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La Riunione: Tipologie e Obiettiv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D46E0-23E9-4EEF-8484-93A618D59AB5}" type="slidenum">
              <a:t>34</a:t>
            </a:fld>
          </a:p>
        </p:txBody>
      </p:sp>
    </p:spTree>
  </p:cSld>
  <p:timing>
    <p:tnLst>
      <p:par>
        <p:cTn id="969" dur="indefinite" restart="never" nodeType="tmRoot">
          <p:childTnLst>
            <p:seq>
              <p:cTn id="970" dur="indefinite" nodeType="mainSeq">
                <p:childTnLst>
                  <p:par>
                    <p:cTn id="971" dur="indefinite" fill="hold">
                      <p:stCondLst>
                        <p:cond delay="indefinite"/>
                      </p:stCondLst>
                      <p:childTnLst>
                        <p:par>
                          <p:cTn id="9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5" dur="500" fill="hold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49200" y="2297160"/>
            <a:ext cx="84628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1844640"/>
            <a:ext cx="1873080" cy="3655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PRI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DURAN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DO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059280" y="1844640"/>
            <a:ext cx="598644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Stabilire obiettivi e durata    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Comunicare quanto sopra a tutti i partecipanti fornendo 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materiale di riferime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Richiedere conferma della partecipa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Verificare il consenso sugli obiettiv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Ripartire il tempo a disposi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Nominare un segretario per far rispettare i tempi e fa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preparare un verb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5760">
              <a:lnSpc>
                <a:spcPct val="100000"/>
              </a:lnSpc>
              <a:tabLst>
                <a:tab algn="l" pos="0"/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Distribuire il verbale con le indicazioni su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5760">
              <a:lnSpc>
                <a:spcPct val="100000"/>
              </a:lnSpc>
              <a:buClr>
                <a:srgbClr val="000066"/>
              </a:buClr>
              <a:buFont typeface="Arial"/>
              <a:buAutoNum type="alphaLcParenR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chi fa cosa”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5760">
              <a:lnSpc>
                <a:spcPct val="100000"/>
              </a:lnSpc>
              <a:buClr>
                <a:srgbClr val="000066"/>
              </a:buClr>
              <a:buFont typeface="Arial"/>
              <a:buAutoNum type="alphaLcParenR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entro quali temp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5760">
              <a:lnSpc>
                <a:spcPct val="100000"/>
              </a:lnSpc>
              <a:buClr>
                <a:srgbClr val="000066"/>
              </a:buClr>
              <a:buFont typeface="Arial"/>
              <a:buAutoNum type="alphaLcParenR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con quali risors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5760">
              <a:lnSpc>
                <a:spcPct val="100000"/>
              </a:lnSpc>
              <a:buClr>
                <a:srgbClr val="000066"/>
              </a:buClr>
              <a:buFont typeface="Arial"/>
              <a:buAutoNum type="alphaLcParenR"/>
              <a:tabLst>
                <a:tab algn="l" pos="457200"/>
                <a:tab algn="l" pos="1371600"/>
                <a:tab algn="l" pos="2286000"/>
                <a:tab algn="l" pos="3200400"/>
                <a:tab algn="l" pos="4114800"/>
                <a:tab algn="l" pos="5029200"/>
                <a:tab algn="l" pos="5943600"/>
                <a:tab algn="l" pos="6858000"/>
                <a:tab algn="l" pos="7772400"/>
                <a:tab algn="l" pos="8686800"/>
                <a:tab algn="l" pos="9601200"/>
                <a:tab algn="l" pos="1051560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scadenze per ulteriori incontri o verifich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Organizzare una Riunione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3115F-8EB5-4E82-B4E2-4B19FC0C813F}" type="slidenum">
              <a:t>35</a:t>
            </a:fld>
          </a:p>
        </p:txBody>
      </p:sp>
    </p:spTree>
  </p:cSld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dur="indefinite" fill="hold">
                      <p:stCondLst>
                        <p:cond delay="indefinite"/>
                      </p:stCondLst>
                      <p:childTnLst>
                        <p:par>
                          <p:cTn id="9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2" dur="500" fill="hold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Il governo della Riunione: </a:t>
            </a:r>
            <a:br>
              <a:rPr sz="3200"/>
            </a:b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le Strategie Negozial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3809880" y="3962520"/>
            <a:ext cx="15670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2D6BC0-1C65-44B2-9E1B-5647F2C10E26}" type="slidenum">
              <a:t>36</a:t>
            </a:fld>
          </a:p>
        </p:txBody>
      </p:sp>
    </p:spTree>
  </p:cSld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dur="indefinite" fill="hold">
                      <p:stCondLst>
                        <p:cond delay="0"/>
                      </p:stCondLst>
                      <p:childTnLst>
                        <p:par>
                          <p:cTn id="9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8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dur="indefinite" fill="hold">
                            <p:stCondLst>
                              <p:cond delay="500"/>
                            </p:stCondLst>
                            <p:childTnLst>
                              <p:par>
                                <p:cTn id="99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828800" y="2286000"/>
            <a:ext cx="7315200" cy="4572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La Riunione: Caratteristiche delle</a:t>
            </a:r>
            <a:br>
              <a:rPr sz="3200"/>
            </a:b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Strategie Negoziali (1)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83" name=""/>
          <p:cNvSpPr/>
          <p:nvPr/>
        </p:nvSpPr>
        <p:spPr>
          <a:xfrm>
            <a:off x="268200" y="2362320"/>
            <a:ext cx="84628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140920" y="1600200"/>
            <a:ext cx="6241320" cy="667800"/>
            <a:chOff x="2140920" y="1600200"/>
            <a:chExt cx="6241320" cy="667800"/>
          </a:xfrm>
        </p:grpSpPr>
        <p:sp>
          <p:nvSpPr>
            <p:cNvPr id="185" name=""/>
            <p:cNvSpPr/>
            <p:nvPr/>
          </p:nvSpPr>
          <p:spPr>
            <a:xfrm>
              <a:off x="2140920" y="1620720"/>
              <a:ext cx="1488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</a:rPr>
                <a:t>Competi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199760" y="1630440"/>
              <a:ext cx="1629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</a:rPr>
                <a:t>Collabora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865920" y="1600200"/>
              <a:ext cx="1516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</a:rPr>
                <a:t>Subordin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240" y="1601640"/>
            <a:ext cx="1710000" cy="4500000"/>
            <a:chOff x="3240" y="1601640"/>
            <a:chExt cx="1710000" cy="4500000"/>
          </a:xfrm>
        </p:grpSpPr>
        <p:sp>
          <p:nvSpPr>
            <p:cNvPr id="189" name=""/>
            <p:cNvSpPr/>
            <p:nvPr/>
          </p:nvSpPr>
          <p:spPr>
            <a:xfrm>
              <a:off x="228600" y="1601640"/>
              <a:ext cx="117360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FATTOR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240" y="2362320"/>
              <a:ext cx="1710000" cy="37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Obiettivo del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comportame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Espressi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degli obietti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828800" y="2363760"/>
            <a:ext cx="7141680" cy="3739320"/>
            <a:chOff x="1828800" y="2363760"/>
            <a:chExt cx="7141680" cy="3739320"/>
          </a:xfrm>
        </p:grpSpPr>
        <p:sp>
          <p:nvSpPr>
            <p:cNvPr id="192" name=""/>
            <p:cNvSpPr/>
            <p:nvPr/>
          </p:nvSpPr>
          <p:spPr>
            <a:xfrm>
              <a:off x="1828800" y="2363760"/>
              <a:ext cx="1833480" cy="37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ersegue obietti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 spese dell’alt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Nasconde 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roprie carte: al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fiducia in se stes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 bassa nell’alt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mprende m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istorce i propr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obietti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89440" y="2363760"/>
              <a:ext cx="2446200" cy="37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ersegue obiettiv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sostenuti in comu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 l’altra 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sprime i propr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ensieri e emozioni c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fiducia e schiettezza: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scolto attivo ed esplo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razione comune del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lternativ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mprende e rappresen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a accuratamente i propr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bisogn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51640" y="2363760"/>
              <a:ext cx="2418840" cy="37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sciamente subordi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na i propri obiettivi p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vitare il conflit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 la contro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mpletamente aper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nell’esprimere le propri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ebolezze e vulnerabil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lla contro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reoccupato dei bisogn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ell’altro, reprime 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ropri bisogn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B24771-F2A9-4F4B-8FCB-9942DB73732E}" type="slidenum">
              <a:t>37</a:t>
            </a:fld>
          </a:p>
        </p:txBody>
      </p:sp>
    </p:spTree>
  </p:cSld>
  <p:timing>
    <p:tnLst>
      <p:par>
        <p:cTn id="996" dur="indefinite" restart="never" nodeType="tmRoot">
          <p:childTnLst>
            <p:seq>
              <p:cTn id="997" dur="indefinite" nodeType="mainSeq">
                <p:childTnLst>
                  <p:par>
                    <p:cTn id="998" dur="indefinite" fill="hold">
                      <p:stCondLst>
                        <p:cond delay="indefinite"/>
                      </p:stCondLst>
                      <p:childTnLst>
                        <p:par>
                          <p:cTn id="9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2" dur="500" fill="hold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1752480" y="2209680"/>
            <a:ext cx="7391520" cy="4648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4960" y="2330280"/>
            <a:ext cx="84632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067840" y="1523880"/>
            <a:ext cx="6239880" cy="667800"/>
            <a:chOff x="2067840" y="1523880"/>
            <a:chExt cx="6239880" cy="667800"/>
          </a:xfrm>
        </p:grpSpPr>
        <p:sp>
          <p:nvSpPr>
            <p:cNvPr id="198" name=""/>
            <p:cNvSpPr/>
            <p:nvPr/>
          </p:nvSpPr>
          <p:spPr>
            <a:xfrm>
              <a:off x="2067840" y="1554120"/>
              <a:ext cx="1488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</a:rPr>
                <a:t>Competi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124880" y="1554120"/>
              <a:ext cx="1629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</a:rPr>
                <a:t>Collabora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791400" y="1523880"/>
              <a:ext cx="1516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</a:rPr>
                <a:t>Subordin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0" y="1569960"/>
            <a:ext cx="1905120" cy="5288040"/>
            <a:chOff x="0" y="1569960"/>
            <a:chExt cx="1905120" cy="5288040"/>
          </a:xfrm>
        </p:grpSpPr>
        <p:sp>
          <p:nvSpPr>
            <p:cNvPr id="202" name=""/>
            <p:cNvSpPr/>
            <p:nvPr/>
          </p:nvSpPr>
          <p:spPr>
            <a:xfrm>
              <a:off x="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28600" y="1569960"/>
              <a:ext cx="117360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FATTOR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240" y="2286000"/>
              <a:ext cx="1743480" cy="39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Prevedibil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Condivisi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di informaz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Comportamen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di ricerc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752840" y="2286000"/>
            <a:ext cx="7391160" cy="3982680"/>
            <a:chOff x="1752840" y="2286000"/>
            <a:chExt cx="7391160" cy="3982680"/>
          </a:xfrm>
        </p:grpSpPr>
        <p:sp>
          <p:nvSpPr>
            <p:cNvPr id="206" name=""/>
            <p:cNvSpPr/>
            <p:nvPr/>
          </p:nvSpPr>
          <p:spPr>
            <a:xfrm>
              <a:off x="1752840" y="2286000"/>
              <a:ext cx="2034720" cy="398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zioni imprevedibili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mescola strategie 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sorprese per sotto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mettere l’alt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Utilizza minacce 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bluff; cerca 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redomin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rova maniere 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pparire impegnat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su una posizione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manipola in mod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istruttivo l’altra pos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881520" y="2332080"/>
              <a:ext cx="2452320" cy="349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zioni prevedibili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mportamento flessibil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 senza sorpre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divide le informazion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d è onesto; tratta l’alt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 comprensione 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ntegr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rova soluzioni ai pro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blemi soddisfacent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er entramb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551640" y="2332080"/>
              <a:ext cx="2592360" cy="373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zioni prevedibili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va incontro comple-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amente all’alt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Rinuncia alla prop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osizione per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mmorbidire l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osizione dell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tro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rova modi di adattars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lla posizione dell’altr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La Riunione: Caratteristiche delle</a:t>
            </a:r>
            <a:br>
              <a:rPr sz="3200"/>
            </a:b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Strategie Negoziali (2)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F676D-7E24-4936-B7D3-82B9517A4890}" type="slidenum">
              <a:t>38</a:t>
            </a:fld>
          </a:p>
        </p:txBody>
      </p:sp>
    </p:spTree>
  </p:cSld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dur="indefinite" fill="hold">
                      <p:stCondLst>
                        <p:cond delay="indefinite"/>
                      </p:stCondLst>
                      <p:childTnLst>
                        <p:par>
                          <p:cTn id="10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9" dur="500" fill="hold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600200" y="1981080"/>
            <a:ext cx="7543800" cy="4876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ecff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616896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4960" y="2098800"/>
            <a:ext cx="846324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829880" y="1371600"/>
            <a:ext cx="6544440" cy="637560"/>
            <a:chOff x="1829880" y="1371600"/>
            <a:chExt cx="6544440" cy="637560"/>
          </a:xfrm>
        </p:grpSpPr>
        <p:sp>
          <p:nvSpPr>
            <p:cNvPr id="214" name=""/>
            <p:cNvSpPr/>
            <p:nvPr/>
          </p:nvSpPr>
          <p:spPr>
            <a:xfrm>
              <a:off x="1829880" y="1371600"/>
              <a:ext cx="14889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</a:rPr>
                <a:t>Competi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390200" y="1371600"/>
              <a:ext cx="162936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</a:rPr>
                <a:t>Collaborativ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858000" y="1371600"/>
              <a:ext cx="151632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</a:rPr>
                <a:t>Strategi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0000cc"/>
                  </a:solidFill>
                  <a:latin typeface="Arial"/>
                </a:rPr>
                <a:t>Subordinat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440" y="1338120"/>
            <a:ext cx="1464480" cy="5265000"/>
            <a:chOff x="1440" y="1338120"/>
            <a:chExt cx="1464480" cy="5265000"/>
          </a:xfrm>
        </p:grpSpPr>
        <p:sp>
          <p:nvSpPr>
            <p:cNvPr id="218" name=""/>
            <p:cNvSpPr/>
            <p:nvPr/>
          </p:nvSpPr>
          <p:spPr>
            <a:xfrm>
              <a:off x="228600" y="1338120"/>
              <a:ext cx="1173600" cy="91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FATTOR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440" y="2133720"/>
              <a:ext cx="1464480" cy="44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Strument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per ave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success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Estrem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negativ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Attitudi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chiave/comp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Affronta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it-IT" sz="1600" spc="-1" strike="noStrike">
                  <a:solidFill>
                    <a:srgbClr val="0000cc"/>
                  </a:solidFill>
                  <a:latin typeface="Arial"/>
                </a:rPr>
                <a:t>l’impass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1676520" y="2100240"/>
            <a:ext cx="7230600" cy="4502880"/>
            <a:chOff x="1676520" y="2100240"/>
            <a:chExt cx="7230600" cy="4502880"/>
          </a:xfrm>
        </p:grpSpPr>
        <p:sp>
          <p:nvSpPr>
            <p:cNvPr id="221" name=""/>
            <p:cNvSpPr/>
            <p:nvPr/>
          </p:nvSpPr>
          <p:spPr>
            <a:xfrm>
              <a:off x="1676520" y="2133720"/>
              <a:ext cx="2227320" cy="422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rea una cattiv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mmagine dell’altro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gnora le logich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altrui; aumen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l’ostil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Ritenere che il su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obiettivo sia quell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i impedire all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troparte 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raggiungere l’ob.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“</a:t>
              </a: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o vinco, tu perdi.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Ricorrere ad u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mediatore/arbitr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62160" y="2133720"/>
              <a:ext cx="2427840" cy="44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vita i cattivi stereotipi;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sidera le idee i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base al merito; non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nduce ostil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fondere la propr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dentità e quella dell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contro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“</a:t>
              </a: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Qual è il miglior modo 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soddisfare gli obiettivi di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ntrambe le parti ?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Utilizzare un facilitator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esperto in dinamich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i grupp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828120" y="2100240"/>
              <a:ext cx="2079000" cy="446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Minimizza o evit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il conflitto e plac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l’ostilità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iventa uno zerbin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della contropar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“</a:t>
              </a: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Tu vinci, io perdo.”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Utilizzare formazion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sull’assertività o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it-IT" sz="1600" spc="-1" strike="noStrike">
                  <a:solidFill>
                    <a:srgbClr val="000066"/>
                  </a:solidFill>
                  <a:latin typeface="Arial"/>
                </a:rPr>
                <a:t>psicoterapi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La Riunione: Caratteristiche delle</a:t>
            </a:r>
            <a:br>
              <a:rPr sz="3200"/>
            </a:b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Strategie Negoziali (3)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E04034-ED35-450D-A127-248CCDB26375}" type="slidenum">
              <a:t>39</a:t>
            </a:fld>
          </a:p>
        </p:txBody>
      </p:sp>
    </p:spTree>
  </p:cSld>
  <p:timing>
    <p:tnLst>
      <p:par>
        <p:cTn id="1010" dur="indefinite" restart="never" nodeType="tmRoot">
          <p:childTnLst>
            <p:seq>
              <p:cTn id="1011" dur="indefinite" nodeType="mainSeq">
                <p:childTnLst>
                  <p:par>
                    <p:cTn id="1012" dur="indefinite" fill="hold">
                      <p:stCondLst>
                        <p:cond delay="indefinite"/>
                      </p:stCondLst>
                      <p:childTnLst>
                        <p:par>
                          <p:cTn id="10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6" dur="500" fill="hold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Tahoma"/>
              </a:rPr>
              <a:t>I Conflitti e le Obiezioni</a:t>
            </a:r>
            <a:endParaRPr b="0" i="1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49A8EC-7DEC-44C8-93A6-F6DD22D30C9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349200" y="2297160"/>
            <a:ext cx="84628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25720" y="1905120"/>
            <a:ext cx="2750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TIPO DI NEGOZIAT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29480" y="1917720"/>
            <a:ext cx="268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TATTICHE UTILIZZ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1320" y="2362320"/>
            <a:ext cx="2154960" cy="4203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Dall’Apertu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Aggressiv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Dai Lunghi Silenz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Il Beffar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8760" y="2374920"/>
            <a:ext cx="592524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Mette a disagio le controparti facendo commenti taglien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sulle loro prestazioni precedenti, i loro numeri, la lor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irragionevolezza, od ogni altra cosa possa ess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utilizzata per insinuare che non vale la pena parlare 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le contropart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Ascolta le controparti ma non risponde in mo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immediato alle loro proposte e affermazioni, quan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piuttosto sembra lasciar loro molto tempo, con i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risultato che i lunghi silenzi hanno lo scopo di fare i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modo che chi gli è di fronte si scopra di più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Deride e schernisce le proposte dell’opposizione al fi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di mettere quest’ultima così in tensione da dire qualcos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di cui, poi, doversi pentire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La Riunione: le Tattiche Negoziali (1)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1771B-0EF6-41A1-B91F-8762A894C281}" type="slidenum">
              <a:t>40</a:t>
            </a:fld>
          </a:p>
        </p:txBody>
      </p:sp>
    </p:spTree>
  </p:cSld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dur="indefinite" fill="hold">
                      <p:stCondLst>
                        <p:cond delay="indefinite"/>
                      </p:stCondLst>
                      <p:childTnLst>
                        <p:par>
                          <p:cTn id="10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3" dur="5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343080" y="2297160"/>
            <a:ext cx="846288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25720" y="1905120"/>
            <a:ext cx="2750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TIPO DI NEGOZIATO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121560" y="1905120"/>
            <a:ext cx="2687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TATTICHE UTILIZZAT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0680" y="2374920"/>
            <a:ext cx="1959840" cy="3929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ffffff"/>
              </a:gs>
              <a:gs pos="100000">
                <a:srgbClr val="ffff00"/>
              </a:gs>
            </a:gsLst>
            <a:lin ang="5400000"/>
          </a:gradFill>
          <a:ln w="1260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Interrogato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Dall’Infid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Ragionevolezz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1800" spc="-1" strike="noStrike">
                <a:solidFill>
                  <a:srgbClr val="000066"/>
                </a:solidFill>
                <a:latin typeface="Arial"/>
              </a:rPr>
              <a:t>Divide et impe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122640" y="2374920"/>
            <a:ext cx="6024600" cy="42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Affronta tutte le proposte con meticolosità, sollecitan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domande in modo tale da indurre la controparte a ritener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che non abbia fatto attentamente il lavoro. Affronta ogn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risposta evidenziando i problemi e chie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all’opposizione di spiegare in modo più approfondi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cosa inten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Sembra disposto ad accettare ed è di aiuto, mentre p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domande impossibili allo scopo di conquistare l’amiciz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e la confidenza dell’opposizion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Crea dissenso tra l’opposizione in modo che debb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stare attenta al disaccordo interno. Si allea con un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persona del team e cercare di condizionarlo contro gli alt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1800" spc="-1" strike="noStrike">
                <a:solidFill>
                  <a:srgbClr val="000066"/>
                </a:solidFill>
                <a:latin typeface="Arial"/>
              </a:rPr>
              <a:t>membri del grupp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cc"/>
                </a:solidFill>
                <a:latin typeface="Tahoma"/>
              </a:rPr>
              <a:t>La Riunione: le Tattiche Negoziali (2)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F556E5-7CF3-4098-A8B7-69632AD98D11}" type="slidenum">
              <a:t>41</a:t>
            </a:fld>
          </a:p>
        </p:txBody>
      </p:sp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dur="indefinite" fill="hold">
                      <p:stCondLst>
                        <p:cond delay="indefinite"/>
                      </p:stCondLst>
                      <p:childTnLst>
                        <p:par>
                          <p:cTn id="10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0" dur="5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cc"/>
                </a:solidFill>
                <a:latin typeface="Tahoma"/>
              </a:rPr>
              <a:t>“</a:t>
            </a:r>
            <a:r>
              <a:rPr b="0" i="1" lang="it-IT" sz="2800" spc="-1" strike="noStrike">
                <a:solidFill>
                  <a:srgbClr val="0000cc"/>
                </a:solidFill>
                <a:latin typeface="Tahoma"/>
              </a:rPr>
              <a:t>Più l’uomo dà agli altri, più possiede se stesso”</a:t>
            </a:r>
            <a:r>
              <a:rPr b="0" lang="it-IT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0" lang="it-IT" sz="2800" spc="-1" strike="noStrike">
                <a:solidFill>
                  <a:srgbClr val="0000cc"/>
                </a:solidFill>
                <a:latin typeface="Tahoma"/>
              </a:rPr>
              <a:t>	</a:t>
            </a:r>
            <a:r>
              <a:rPr b="1" lang="it-IT" sz="2800" spc="-1" strike="noStrike">
                <a:solidFill>
                  <a:srgbClr val="0000cc"/>
                </a:solidFill>
                <a:latin typeface="Tahoma"/>
              </a:rPr>
              <a:t>Lao-Tze</a:t>
            </a:r>
            <a:endParaRPr b="0" lang="en-US" sz="28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DF6D2F-376F-4809-A1D2-151D73102C92}" type="slidenum">
              <a:t>42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Il conflitt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1640" y="1052640"/>
            <a:ext cx="381492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 valori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Scontro tra personalità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scussioni di merito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1728720" y="3270240"/>
            <a:ext cx="1725840" cy="1230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FBAA7-F693-4498-BB99-04ACDB33C468}" type="slidenum">
              <a:t>5</a:t>
            </a:fld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dur="indefinite" fill="hold">
                      <p:stCondLst>
                        <p:cond delay="indefinite"/>
                      </p:stCondLst>
                      <p:childTnLst>
                        <p:par>
                          <p:cTn id="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 fill="hold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dur="indefinite" fill="hold">
                      <p:stCondLst>
                        <p:cond delay="indefinite"/>
                      </p:stCondLst>
                      <p:childTnLst>
                        <p:par>
                          <p:cTn id="8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dur="indefinite" fill="hold">
                      <p:stCondLst>
                        <p:cond delay="indefinite"/>
                      </p:stCondLst>
                      <p:childTnLst>
                        <p:par>
                          <p:cTn id="9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 fill="hold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dur="indefinite" fill="hold">
                      <p:stCondLst>
                        <p:cond delay="indefinite"/>
                      </p:stCondLst>
                      <p:childTnLst>
                        <p:par>
                          <p:cTn id="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e strade per tentare di uscire da un conflitto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780000" y="1988640"/>
            <a:ext cx="49068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4440" indent="-33444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A METACOMUNICAZION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44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4440" indent="-3344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RIVOLGERSI AD UN TERZO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44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4440" indent="-3344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DISARMO UNILATERALE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4440" indent="0"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4440" indent="-3344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LA RISTRUTTURAZIONE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E7353-29C9-4DCF-AA5F-23C39952D557}" type="slidenum">
              <a:t>6</a:t>
            </a:fld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dur="indefinite" fill="hold">
                      <p:stCondLst>
                        <p:cond delay="indefinite"/>
                      </p:stCondLst>
                      <p:childTnLst>
                        <p:par>
                          <p:cTn id="1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 fill="hold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dur="indefinite" fill="hold">
                      <p:stCondLst>
                        <p:cond delay="indefinite"/>
                      </p:stCondLst>
                      <p:childTnLst>
                        <p:par>
                          <p:cTn id="10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dur="indefinite" fill="hold">
                      <p:stCondLst>
                        <p:cond delay="indefinite"/>
                      </p:stCondLst>
                      <p:childTnLst>
                        <p:par>
                          <p:cTn id="1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dur="indefinite" fill="hold">
                      <p:stCondLst>
                        <p:cond delay="indefinite"/>
                      </p:stCondLst>
                      <p:childTnLst>
                        <p:par>
                          <p:cTn id="1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dur="indefinite" fill="hold">
                      <p:stCondLst>
                        <p:cond delay="indefinite"/>
                      </p:stCondLst>
                      <p:childTnLst>
                        <p:par>
                          <p:cTn id="1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La gestione delle obiez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2920" y="1916280"/>
            <a:ext cx="403884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Ci possono essere diversi tipi di bisogni: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120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o di sicurezza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120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o di qualità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120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o di novità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120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Bisogno di tranquillità;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  <a:p>
            <a:pPr marL="332640" indent="-33120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…………</a:t>
            </a:r>
            <a:r>
              <a:rPr b="0" lang="it-IT" sz="2800" spc="-1" strike="noStrike">
                <a:solidFill>
                  <a:srgbClr val="000066"/>
                </a:solidFill>
                <a:latin typeface="Tahoma"/>
              </a:rPr>
              <a:t>..</a:t>
            </a:r>
            <a:endParaRPr b="0" lang="en-US" sz="2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6"/>
          <a:stretch/>
        </p:blipFill>
        <p:spPr>
          <a:xfrm>
            <a:off x="2104920" y="2975040"/>
            <a:ext cx="974880" cy="18208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75F655-2970-4369-909C-9701DD11FF05}" type="slidenum">
              <a:t>7</a:t>
            </a:fld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dur="indefinite" fill="hold">
                      <p:stCondLst>
                        <p:cond delay="indefinite"/>
                      </p:stCondLst>
                      <p:childTnLst>
                        <p:par>
                          <p:cTn id="1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 fill="hold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dur="indefinite" fill="hold">
                      <p:stCondLst>
                        <p:cond delay="indefinite"/>
                      </p:stCondLst>
                      <p:childTnLst>
                        <p:par>
                          <p:cTn id="13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 fill="hold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dur="indefinite" fill="hold">
                      <p:stCondLst>
                        <p:cond delay="indefinite"/>
                      </p:stCondLst>
                      <p:childTnLst>
                        <p:par>
                          <p:cTn id="1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 fill="hold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dur="indefinite" fill="hold">
                      <p:stCondLst>
                        <p:cond delay="indefinite"/>
                      </p:stCondLst>
                      <p:childTnLst>
                        <p:par>
                          <p:cTn id="1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500" fill="hold"/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dur="indefinite" fill="hold">
                      <p:stCondLst>
                        <p:cond delay="indefinite"/>
                      </p:stCondLst>
                      <p:childTnLst>
                        <p:par>
                          <p:cTn id="1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 fill="hold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10960" y="-360"/>
            <a:ext cx="7942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cc"/>
                </a:solidFill>
                <a:latin typeface="Tahoma"/>
              </a:rPr>
              <a:t>Possibili risposte alle obiezioni</a:t>
            </a:r>
            <a:endParaRPr b="0" lang="en-US" sz="3200" spc="-1" strike="noStrike">
              <a:solidFill>
                <a:srgbClr val="0000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1640" y="1052280"/>
            <a:ext cx="381492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88520" indent="-48852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RINVIARE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885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"Mi dà l'opportunità di parlarne dopo?"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88520" indent="-48852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RIDURRE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885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"Tenendo conto di tutte queste osservazioni quale è la più importante dalla quale partiamo?"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88520" indent="-48852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AMPLIARE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885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"C'è qualcosa d'altro che vuole dirmi?”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88520" indent="-48852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ISOLARE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885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"Rispondendo a queste domande soddisfo tutti i suoi bisogni?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88520" indent="-48852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TRASFORMARE IN ARGOMENTO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885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Dare la spiegazione tecnica.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88520" indent="-488520">
              <a:lnSpc>
                <a:spcPct val="90000"/>
              </a:lnSpc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1" lang="it-IT" sz="1700" spc="-1" strike="noStrike">
                <a:solidFill>
                  <a:srgbClr val="000066"/>
                </a:solidFill>
                <a:latin typeface="Tahoma"/>
              </a:rPr>
              <a:t>CONTRODOMANDARE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  <a:p>
            <a:pPr marL="48852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063800"/>
                <a:tab algn="l" pos="1978200"/>
                <a:tab algn="l" pos="2892600"/>
                <a:tab algn="l" pos="3807000"/>
                <a:tab algn="l" pos="4721400"/>
                <a:tab algn="l" pos="5635800"/>
                <a:tab algn="l" pos="6550200"/>
                <a:tab algn="l" pos="7464600"/>
                <a:tab algn="l" pos="8379000"/>
                <a:tab algn="l" pos="9293400"/>
                <a:tab algn="l" pos="10207800"/>
                <a:tab algn="l" pos="10333080"/>
                <a:tab algn="l" pos="10782360"/>
              </a:tabLst>
            </a:pP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it-IT" sz="1700" spc="-1" strike="noStrike">
                <a:solidFill>
                  <a:srgbClr val="000066"/>
                </a:solidFill>
                <a:latin typeface="Tahoma"/>
              </a:rPr>
              <a:t>Rilevare la fondatezza dell'opinione</a:t>
            </a:r>
            <a:r>
              <a:rPr b="0" lang="fr-FR" sz="17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7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7"/>
          <a:stretch/>
        </p:blipFill>
        <p:spPr>
          <a:xfrm>
            <a:off x="1557360" y="3156120"/>
            <a:ext cx="2071800" cy="1458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BB63FE-F644-4872-95A4-8505D2AC0043}" type="slidenum">
              <a:t>8</a:t>
            </a:fld>
          </a:p>
        </p:txBody>
      </p:sp>
    </p:spTree>
  </p:cSld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fill="hold">
                      <p:stCondLst>
                        <p:cond delay="indefinite"/>
                      </p:stCondLst>
                      <p:childTnLst>
                        <p:par>
                          <p:cTn id="1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.000019073486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dur="indefinite" fill="hold">
                      <p:stCondLst>
                        <p:cond delay="indefinite"/>
                      </p:stCondLst>
                      <p:childTnLst>
                        <p:par>
                          <p:cTn id="17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dur="indefinite" fill="hold">
                      <p:stCondLst>
                        <p:cond delay="indefinite"/>
                      </p:stCondLst>
                      <p:childTnLst>
                        <p:par>
                          <p:cTn id="18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dur="indefinite" fill="hold">
                      <p:stCondLst>
                        <p:cond delay="indefinite"/>
                      </p:stCondLst>
                      <p:childTnLst>
                        <p:par>
                          <p:cTn id="18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dur="indefinite" fill="hold">
                      <p:stCondLst>
                        <p:cond delay="indefinite"/>
                      </p:stCondLst>
                      <p:childTnLst>
                        <p:par>
                          <p:cTn id="1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4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dur="indefinite" fill="hold">
                      <p:stCondLst>
                        <p:cond delay="indefinite"/>
                      </p:stCondLst>
                      <p:childTnLst>
                        <p:par>
                          <p:cTn id="19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dur="indefinite" fill="hold">
                      <p:stCondLst>
                        <p:cond delay="indefinite"/>
                      </p:stCondLst>
                      <p:childTnLst>
                        <p:par>
                          <p:cTn id="20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dur="indefinite" fill="hold">
                      <p:stCondLst>
                        <p:cond delay="indefinite"/>
                      </p:stCondLst>
                      <p:childTnLst>
                        <p:par>
                          <p:cTn id="2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dur="indefinite" fill="hold">
                      <p:stCondLst>
                        <p:cond delay="indefinite"/>
                      </p:stCondLst>
                      <p:childTnLst>
                        <p:par>
                          <p:cTn id="2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 fill="hold"/>
                                        <p:tgtEl>
                                          <p:spTgt spid="1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dur="indefinite" fill="hold">
                      <p:stCondLst>
                        <p:cond delay="indefinite"/>
                      </p:stCondLst>
                      <p:childTnLst>
                        <p:par>
                          <p:cTn id="2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 fill="hold"/>
                                        <p:tgtEl>
                                          <p:spTgt spid="1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dur="indefinite" fill="hold">
                      <p:stCondLst>
                        <p:cond delay="indefinite"/>
                      </p:stCondLst>
                      <p:childTnLst>
                        <p:par>
                          <p:cTn id="22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 fill="hold"/>
                                        <p:tgtEl>
                                          <p:spTgt spid="1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dur="indefinite" fill="hold">
                      <p:stCondLst>
                        <p:cond delay="indefinite"/>
                      </p:stCondLst>
                      <p:childTnLst>
                        <p:par>
                          <p:cTn id="23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 fill="hold"/>
                                        <p:tgtEl>
                                          <p:spTgt spid="1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dur="indefinite" fill="hold">
                      <p:stCondLst>
                        <p:cond delay="indefinite"/>
                      </p:stCondLst>
                      <p:childTnLst>
                        <p:par>
                          <p:cTn id="2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1447920" y="41911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fr-FR" sz="3200" spc="-1" strike="noStrike">
                <a:solidFill>
                  <a:srgbClr val="ff0000"/>
                </a:solidFill>
                <a:latin typeface="Tahoma"/>
              </a:rPr>
              <a:t>Il Gruppo</a:t>
            </a:r>
            <a:endParaRPr b="0" i="1" lang="en-US" sz="3200" spc="-1" strike="noStrike">
              <a:solidFill>
                <a:srgbClr val="ff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310AD-1DA3-4A5B-BB63-0974055C83A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4:55:16Z</dcterms:created>
  <dc:creator>Giangreco</dc:creator>
  <dc:description/>
  <dc:language>en-US</dc:language>
  <cp:lastModifiedBy>Daniela</cp:lastModifiedBy>
  <cp:lastPrinted>1999-04-19T15:18:12Z</cp:lastPrinted>
  <dcterms:modified xsi:type="dcterms:W3CDTF">2008-04-02T06:18:27Z</dcterms:modified>
  <cp:revision>273</cp:revision>
  <dc:subject/>
  <dc:title>Negoziazione</dc:title>
</cp:coreProperties>
</file>