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914400" y="457200"/>
            <a:ext cx="4950000" cy="342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808600" y="8823240"/>
            <a:ext cx="936360" cy="2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880" rIns="92880" tIns="46440" bIns="46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1B0BF5-F207-4132-97B1-EC5CDCD4D94D}" type="slidenum">
              <a:rPr b="0" lang="it-IT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/4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66880" y="8879040"/>
            <a:ext cx="5202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914400" y="4603680"/>
            <a:ext cx="4846680" cy="3819600"/>
            <a:chOff x="914400" y="4603680"/>
            <a:chExt cx="4846680" cy="3819600"/>
          </a:xfrm>
        </p:grpSpPr>
        <p:sp>
          <p:nvSpPr>
            <p:cNvPr id="45" name=""/>
            <p:cNvSpPr/>
            <p:nvPr/>
          </p:nvSpPr>
          <p:spPr>
            <a:xfrm>
              <a:off x="922320" y="4603680"/>
              <a:ext cx="48308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922320" y="4959360"/>
              <a:ext cx="4830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914400" y="5291280"/>
              <a:ext cx="4830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914400" y="5646600"/>
              <a:ext cx="48308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30240" y="5994360"/>
              <a:ext cx="48308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930240" y="6350040"/>
              <a:ext cx="4830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922320" y="6681960"/>
              <a:ext cx="4830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922320" y="7037280"/>
              <a:ext cx="48308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922320" y="7378560"/>
              <a:ext cx="48308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922320" y="7734240"/>
              <a:ext cx="4830840" cy="180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914400" y="8066160"/>
              <a:ext cx="4830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914400" y="8421840"/>
              <a:ext cx="4830840" cy="14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1419480" y="4145040"/>
            <a:ext cx="486720" cy="2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Note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440" y="4343040"/>
            <a:ext cx="5483160" cy="411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914400" y="45720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914400" y="45720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914400" y="45720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914400" y="45720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914400" y="45720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914400" y="45720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914400" y="45720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914400" y="45720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914400" y="45720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914400" y="457200"/>
            <a:ext cx="495288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127080"/>
            <a:ext cx="8912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89121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5360" y="3967560"/>
            <a:ext cx="89121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127080"/>
            <a:ext cx="8912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43488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1960" y="1604880"/>
            <a:ext cx="43488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360" y="3967560"/>
            <a:ext cx="43488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61960" y="3967560"/>
            <a:ext cx="43488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127080"/>
            <a:ext cx="8912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28695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08920" y="1604880"/>
            <a:ext cx="28695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22120" y="1604880"/>
            <a:ext cx="28695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5360" y="3967560"/>
            <a:ext cx="28695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08920" y="3967560"/>
            <a:ext cx="28695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22120" y="3967560"/>
            <a:ext cx="28695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360" y="127080"/>
            <a:ext cx="8912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95360" y="1604880"/>
            <a:ext cx="89121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360" y="127080"/>
            <a:ext cx="8912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89121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360" y="127080"/>
            <a:ext cx="8912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43488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61960" y="1604880"/>
            <a:ext cx="43488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127080"/>
            <a:ext cx="8912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95360" y="127080"/>
            <a:ext cx="8912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127080"/>
            <a:ext cx="8912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43488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1960" y="1604880"/>
            <a:ext cx="43488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95360" y="3967560"/>
            <a:ext cx="43488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127080"/>
            <a:ext cx="8912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434880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1960" y="1604880"/>
            <a:ext cx="43488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61960" y="3967560"/>
            <a:ext cx="43488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360" y="127080"/>
            <a:ext cx="8912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604880"/>
            <a:ext cx="43488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1960" y="1604880"/>
            <a:ext cx="434880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360" y="3967560"/>
            <a:ext cx="8912160" cy="2157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360" y="127080"/>
            <a:ext cx="8912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604880"/>
            <a:ext cx="8912160" cy="4523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1760" y="2666520"/>
            <a:ext cx="83818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LE RIUNIONI DI TE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5120" y="533160"/>
            <a:ext cx="84200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GLI ERRORI PIÙ FREQUENTI NELLA GESTIONE DELLE RIUN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1402920" y="1752480"/>
            <a:ext cx="7016760" cy="4454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NON CONDURRE LA RIUN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COMPORTAMENTI E COMUNICAZIONI DISPERSIVI, CONFLITTUALI, NON COERENTI CON L’OBIETTIVO DELLA RIUN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MANCANZA DI COORDIN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DIFFICOLTÀ A PRENDERE DECIS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NON CONCLUDERE LA RIUN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ASSENZA DI CONCLUSIONE E CONDIVISIONE DI DECISIONI PRE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ASSENZA DI PIANIFICAZIONE OPERA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 fill="hold"/>
                                        <p:tgtEl>
                                          <p:spTgt spid="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 fill="hold"/>
                                        <p:tgtEl>
                                          <p:spTgt spid="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 fill="hold"/>
                                        <p:tgtEl>
                                          <p:spTgt spid="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dur="indefinite" fill="hold">
                      <p:stCondLst>
                        <p:cond delay="indefinite"/>
                      </p:stCondLst>
                      <p:childTnLst>
                        <p:par>
                          <p:cTn id="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 fill="hold"/>
                                        <p:tgtEl>
                                          <p:spTgt spid="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dur="indefinite" fill="hold">
                      <p:stCondLst>
                        <p:cond delay="indefinite"/>
                      </p:stCondLst>
                      <p:childTnLst>
                        <p:par>
                          <p:cTn id="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 fill="hold"/>
                                        <p:tgtEl>
                                          <p:spTgt spid="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CONDUZIONE DELLE RIUNIONI: GESTIRE IN MODO ATTIVO LE DIVERSE FA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742680" y="1599840"/>
            <a:ext cx="8420040" cy="463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EPARAZIONE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: PRIMA DELLA RIUN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ERTURA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: NELLA PARTE INIZIALE DELLA RIUN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SVOLGIMENTO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: NELLA PARTE CENTRALE DELLA RIUN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CLUSIONE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: NELLA PARTE FINALE DELLA RIUN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PREPARAZIONE DELLA RIUNION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42680" y="1600200"/>
            <a:ext cx="8420040" cy="432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DEFINIRE L’OBIETTIVO DELLA RIUNIONE. QUAL E’ IL RISULTATO ATTESO ATTESO, COSA SI VUOLE CONSEGUIRE CON LA RIUN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PREDISPORRE UN ORDINE DEL GIO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STABILIRE LA DURATA DELLA RIUN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IDENTIFICARE I PARTECIPANTI NECESSA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PREPARARE LA DOCUMENTAZIONE NECESS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DEFINIRE LE CONDIZIONI LOGISTI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INVIARE TUTTA LA DOCUMENTAZIONE NECESS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APERTURA DELLA RIUNIONE</a:t>
            </a:r>
            <a:br>
              <a:rPr sz="2800"/>
            </a:b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(CREARE CONDIVISIONE SU FINALITÀ E MODALITÀ DI LAVOR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77800" y="2057040"/>
            <a:ext cx="8585280" cy="4081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ESPLICITARE IL RISULTATO ATTESO DELLA RIUN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SPECIFICARE L’ORDINE DEL GIO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DEFINIRE I TEM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STABILIRE IL METODO/PROCESSO DI LAVO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ASSEGNARE EVENTUALI INCARIC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RICORDARE EVENTUALI ASPETTI LOGISTIC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SVOLGIMENTO DELLA RIUNIONE</a:t>
            </a:r>
            <a:br>
              <a:rPr sz="2800"/>
            </a:b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(GESTIRE LE COMUNICAZIONI, INDIRIZZARE VERSO L’OBIETTIVO PREVIS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577800" y="2057400"/>
            <a:ext cx="8585280" cy="523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PRESIDIO DELLA METODOLOGIA/PROCESSO DI LAVORO STABILI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REGOLARE LA COMUNICAZIONE: FAR INTERVENIRE, GARANTIRE L’ASCOLTO, INTEGRARE, LIMITARE, ALLARGAR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EVITARE DISPERSIONI, NON SOFFERMARSI SU ARGOMENTI SECONDARI O AL DI FUORI DELL’ORDINE DEL GIO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GESTIRE RAPPORTI-COMPORTAMENTI PROBLEMATICI O CONFLITTU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UTILIZZARE SUPPORTI: LAVAG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SVOLGIMENTO DELLA RIUNIONE</a:t>
            </a:r>
            <a:br>
              <a:rPr sz="2800"/>
            </a:b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(GESTIRE LE COMUNICAZIONI, INDIRIZZARE VERSO L’OBIETTIVO PREVIST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77800" y="2057400"/>
            <a:ext cx="8585280" cy="456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FARE SINTESI PARZIALI AL TERMINE DI OGNI FASE E SU COSE “ACQUISITE”, RICAPITOLARE PERIODIC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DISCUTERE ALL’INIZIO I PUNTI CHE RICHIEDONO MAGGIORE IMPEGNO, INIZIARE DAI PUNTI CHE UNISCONO I PARTECIPA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CHIUDERE ALL’ORA STABILITA ( LA DURATA IDEALE DI RIUNIONE NON DOVREBBE SUPERARE LE DUE O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CONCLUSIONE DELLA RIUNIONE</a:t>
            </a:r>
            <a:br>
              <a:rPr sz="2800"/>
            </a:b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(VERIFICA DI CIO’ CHE E’ IN COMUNE, FISSARE OUTPUT CONDIVIS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77800" y="2057040"/>
            <a:ext cx="8585280" cy="396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SINTESI DI CIO’ CHE E’ STATO DEFINITO E MESSO IN COMU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RILEVAZIONE DI EVENTUALI PUNTI ANCORA APER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PIANIFICAZIONE DEL “DOPO” RIUNIONE: AZIONI, COMPITI E RESPONSABILITÀ, TEMPI, MODALITÀ DI VERIF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43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IL VERBALE DELLA RIUNIONE</a:t>
            </a:r>
            <a:br>
              <a:rPr sz="2800"/>
            </a:b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(DOCUMENTARE LA RIUNIONE, EVITARE CHE SI RIMETTANO IN DISCUSSIONE COSE ACQUISITE, RESPONSABILIZZARE SULLE CONCLUSION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42680" y="2389320"/>
            <a:ext cx="8420040" cy="449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TEMA DELLA RIUN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PUNTI TRATTA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EVENTUALE SINTESI INTERVENTI DEI SINGOLI, PROPOSTE FATTE, POSIZIONI ASSU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SINTESI DELLE CONCLUSIONI E DELLE DECISIONI PRE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-33984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RESPONSABILITÀ ASSEGN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840" indent="0">
              <a:spcBef>
                <a:spcPts val="499"/>
              </a:spcBef>
              <a:buNone/>
              <a:tabLst>
                <a:tab algn="l" pos="0"/>
                <a:tab algn="l" pos="34128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360" y="125280"/>
            <a:ext cx="8913600" cy="14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Le qualità del condutto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95360" y="1649520"/>
            <a:ext cx="891360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360" indent="-68292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repara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292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Riconosciuto per le sue competen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292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ccettato come perso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292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apace di valorizzare tut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292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utostima autonoma: non permalo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292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hiaro e sintet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292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ntelligente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95360" y="125280"/>
            <a:ext cx="8913600" cy="14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Le qualità del condutto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95360" y="1649520"/>
            <a:ext cx="891360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360" indent="-68292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Energico: deve essere ripos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292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redibi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292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osi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292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Non ansioge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292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Non manipolabile – obiettiv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292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68436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Coinvolgen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360" y="125280"/>
            <a:ext cx="8913600" cy="14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Perché ci si riunis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95360" y="1649520"/>
            <a:ext cx="891360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36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800" spc="-1" strike="noStrike">
                <a:solidFill>
                  <a:srgbClr val="000000"/>
                </a:solidFill>
                <a:latin typeface="Times New Roman"/>
              </a:rPr>
              <a:t>Decidere cosa fare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292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Una cosa nuo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84360" indent="-68292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ggiustamenti in corso d'op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360" y="125280"/>
            <a:ext cx="8913600" cy="14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Perché ci si riunis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95360" y="1649520"/>
            <a:ext cx="891360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resentare un proget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er convincere della sua bont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360" y="125280"/>
            <a:ext cx="8913600" cy="14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Perché ci si riunis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95360" y="1649520"/>
            <a:ext cx="891360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resentare un proget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per sottoporlo a possibili modifi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95360" y="125280"/>
            <a:ext cx="8913600" cy="14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Perché ci si riunis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95360" y="1649520"/>
            <a:ext cx="891360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nventare assieme qualcosa di nuovo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il processo creativo di grup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360" y="125280"/>
            <a:ext cx="8913600" cy="14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Perché ci si riunis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495360" y="1649520"/>
            <a:ext cx="8913600" cy="443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Tenere alta la motivazione e la tensione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agire sulle emozion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825120" y="533160"/>
            <a:ext cx="84200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GLI ERRORI PIÙ FREQUENTI NELLA GESTIONE DELLE RIUN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485720" y="1752480"/>
            <a:ext cx="6933960" cy="3810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1" lang="it-IT" sz="2400" spc="-1" strike="noStrike">
                <a:solidFill>
                  <a:srgbClr val="000000"/>
                </a:solidFill>
                <a:latin typeface="Times New Roman"/>
              </a:rPr>
              <a:t>NON PROGETTARE/PREPARARE ANTICIPATAMENTE LA RIUNIO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RIUNIONE NON NECESS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RIUNIONE DIVERSA DA QUELLA NECESS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OBIETTIVO POCO CHIA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ORDINE DEL GIORNO NON FORMUL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PARTECIPANTI NON ADEGUA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PARTECIPANTI SENZA INFORMAZ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4T10:52:13Z</dcterms:created>
  <dc:creator>Tartaglia</dc:creator>
  <dc:description/>
  <dc:language>en-US</dc:language>
  <cp:lastModifiedBy>Your User Name</cp:lastModifiedBy>
  <cp:lastPrinted>2010-03-11T20:03:29Z</cp:lastPrinted>
  <dcterms:modified xsi:type="dcterms:W3CDTF">2008-12-15T15:30:21Z</dcterms:modified>
  <cp:revision>161</cp:revision>
  <dc:subject/>
  <dc:title>Presentazione di PowerPoint</dc:title>
</cp:coreProperties>
</file>